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5.wmf" ContentType="image/x-wmf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AC76-C71E-4CF3-9F59-C33C5DCCE6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69CD-C845-4068-B621-8659248E2D08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740C-70AF-4BCA-B4F3-03C378E92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D66C-F1DB-45EF-8F9C-DB1E50BE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9B20-158E-41A3-97BB-4266D5F94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E63F-689C-4640-949F-5F1460215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0474-073D-47B8-91C5-ABC3DB15B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C41E-D073-42CF-BFEE-4BFD7D77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2868-B0E0-4BB3-B5E1-0AD19C91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9E70-5AC9-4708-BD60-9ED61DFC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A093-1E15-48E7-AA56-6C131ACA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1D54-58E2-4077-B3C0-480C2AF4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BC6C-779B-4153-9F82-5FC9BE82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2D7F-6F58-4EF0-8012-BCD579F6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4CDF-0B5E-4D27-9A97-F5F269A8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A699-1739-49D3-9CCD-D64BB540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8C3C-9EA6-4E51-BBE6-34A84364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21A1-DD50-405D-9DBD-3ABE5F73B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A6B56-17EB-4A6C-A740-81FDA9567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D65D-BF7D-4B6F-96A5-004FCCE0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AD9A-4E72-4A4D-BFC9-CEE7D2AE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0FB0-8D50-41EA-A2D2-E6D4084F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6797-F4BC-47CA-8F4E-D1F7EDA9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DCC2-355E-43C6-91AD-91AD0FA2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6D38-33FC-4795-9A45-492D5121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2EE5-5EB2-43EA-9ADE-3F4DE5B4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765e58"/>
                </a:gs>
                <a:gs pos="50000">
                  <a:srgbClr val="a28a84"/>
                </a:gs>
                <a:gs pos="100000">
                  <a:srgbClr val="765e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a28a84"/>
                </a:gs>
                <a:gs pos="50000">
                  <a:srgbClr val="765e58"/>
                </a:gs>
                <a:gs pos="100000">
                  <a:srgbClr val="a28a8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765e58"/>
                </a:gs>
                <a:gs pos="50000">
                  <a:srgbClr val="a28a84"/>
                </a:gs>
                <a:gs pos="100000">
                  <a:srgbClr val="765e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5e58"/>
                </a:gs>
                <a:gs pos="50000">
                  <a:srgbClr val="a28a84"/>
                </a:gs>
                <a:gs pos="100000">
                  <a:srgbClr val="765e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a28a84"/>
                </a:gs>
                <a:gs pos="100000">
                  <a:srgbClr val="765e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a28a84"/>
                </a:gs>
                <a:gs pos="100000">
                  <a:srgbClr val="765e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a28a84"/>
                </a:gs>
                <a:gs pos="100000">
                  <a:srgbClr val="765e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b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S.Glénisson - Ac Orléans Tou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89D4-5C4D-41F7-9E51-742DDAE2870C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765e58"/>
                </a:gs>
                <a:gs pos="50000">
                  <a:srgbClr val="a28a84"/>
                </a:gs>
                <a:gs pos="100000">
                  <a:srgbClr val="765e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a28a84"/>
                </a:gs>
                <a:gs pos="50000">
                  <a:srgbClr val="765e58"/>
                </a:gs>
                <a:gs pos="100000">
                  <a:srgbClr val="a28a8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765e58"/>
                </a:gs>
                <a:gs pos="50000">
                  <a:srgbClr val="a28a84"/>
                </a:gs>
                <a:gs pos="100000">
                  <a:srgbClr val="765e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5e58"/>
                </a:gs>
                <a:gs pos="50000">
                  <a:srgbClr val="a28a84"/>
                </a:gs>
                <a:gs pos="100000">
                  <a:srgbClr val="765e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a28a84"/>
                </a:gs>
                <a:gs pos="100000">
                  <a:srgbClr val="765e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a28a84"/>
                </a:gs>
                <a:gs pos="100000">
                  <a:srgbClr val="765e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a28a84"/>
                </a:gs>
                <a:gs pos="100000">
                  <a:srgbClr val="765e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b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S.Glénisson - Ac Orléans Tou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58C8-444D-4E22-B64C-E922B0404C3A}" type="slidenum"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r.wikipedia.org/wiki/Fichier:LogoForclum.gif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hyperlink" Target="file://upload.wikimedia.org/wikipedia/fr/d/d7/Logo_IKEA.svg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0" lang="fr-FR" sz="4400" spc="-1" strike="noStrike">
                <a:solidFill>
                  <a:srgbClr val="dddddd"/>
                </a:solidFill>
                <a:latin typeface="Arial"/>
              </a:rPr>
              <a:t>Enseignement exploratoire</a:t>
            </a:r>
            <a:br>
              <a:rPr sz="4400"/>
            </a:br>
            <a:r>
              <a:rPr b="0" lang="fr-FR" sz="4400" spc="-1" strike="noStrike">
                <a:solidFill>
                  <a:srgbClr val="dddddd"/>
                </a:solidFill>
                <a:latin typeface="Arial"/>
              </a:rPr>
              <a:t>P.F.E.G.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gency FB"/>
              </a:rPr>
              <a:t>Relation avec la vie de la Cit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Espace réservé du pied de page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S.Glénisson - Ac Orléans Tour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Scénario pédagogique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187280" y="1484280"/>
          <a:ext cx="6553440" cy="5164200"/>
        </p:xfrm>
        <a:graphic>
          <a:graphicData uri="http://schemas.openxmlformats.org/drawingml/2006/table">
            <a:tbl>
              <a:tblPr/>
              <a:tblGrid>
                <a:gridCol w="2295720"/>
                <a:gridCol w="4257720"/>
              </a:tblGrid>
              <a:tr h="331920"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TAP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433f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ES ELEV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433f"/>
                    </a:solidFill>
                  </a:tcPr>
                </a:tc>
              </a:tr>
              <a:tr h="3445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é-requis – introductio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Rappel de la définition du développement durable (transversalité cours d’histoire-géographie).  Relations entre les différents acteurs économiques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3cb"/>
                    </a:solidFill>
                  </a:tcPr>
                </a:tc>
              </a:tr>
              <a:tr h="11221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é 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Analyse du projet du TRAM de Tours et réalisation d’un diaporama commu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H3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Recherche d’informations -  Travail par deux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Se répartir le travail à partir du tableau annexe 1 concernant les différentes questions abordé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Rechercher sur Internet des informations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Transmettre les informations clés en vue de réaliser un diaporama aux élèves en charge du montage via l’ENT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ae7"/>
                    </a:solidFill>
                  </a:tcPr>
                </a:tc>
              </a:tr>
              <a:tr h="140184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é 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résentation des synthèses et prise de not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H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hase conceptualisatio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m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Présentation des synthèses à l’oral à partir du diaporam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Présentation du diaporama par les élèves et prise de notes à partir d’un tableau (annexe 2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Elaboration de la synthèse à partir des notes obtenu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questionnement complémentaire à partir des points soulevés dans le tableau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construction commune de la synthèse concernant la </a:t>
                      </a: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première partie</a:t>
                      </a: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 (enjeux écologiques, économiques et sociaux du développement durable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3cb"/>
                    </a:solidFill>
                  </a:tcPr>
                </a:tc>
              </a:tr>
              <a:tr h="168264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é 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Recherche d’informations concernant les incitations gouvernementales pour d’autres projets dans le cadre du développement durable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H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Recherche d’informations et saisie des réponses à partir d’un tableau (annexe 3) – travail par deux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Prendre un exemple de projet concernant le développement durable pour un ménag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Préciser les avantages fiscaux ou financiers que cela peut entraîne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Elaboration de la synthèse à partir des notes obtenu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Echange concernant les exemples obtenu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construction commune de la synthèse concernant la </a:t>
                      </a: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seconde partie</a:t>
                      </a: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 (incitations concernant les ménages et les entreprises pour le développement durable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ae7"/>
                    </a:solidFill>
                  </a:tcPr>
                </a:tc>
              </a:tr>
              <a:tr h="28116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Evaluation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m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Evaluation sommative complémentair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3cb"/>
                    </a:solidFill>
                  </a:tcPr>
                </a:tc>
              </a:tr>
            </a:tbl>
          </a:graphicData>
        </a:graphic>
      </p:graphicFrame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7451640" y="260280"/>
            <a:ext cx="13906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586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c00"/>
                </a:solidFill>
                <a:latin typeface="Arial"/>
              </a:rPr>
              <a:t>Répartition de la recherche d’information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332000" y="1052640"/>
          <a:ext cx="6480000" cy="5252760"/>
        </p:xfrm>
        <a:graphic>
          <a:graphicData uri="http://schemas.openxmlformats.org/drawingml/2006/table">
            <a:tbl>
              <a:tblPr/>
              <a:tblGrid>
                <a:gridCol w="3240000"/>
                <a:gridCol w="3240000"/>
              </a:tblGrid>
              <a:tr h="207720"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THEME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ELEVE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658800"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 u="sng">
                          <a:solidFill>
                            <a:srgbClr val="54433f"/>
                          </a:solidFill>
                          <a:uFillTx/>
                          <a:latin typeface="Calibri"/>
                          <a:ea typeface="Calibri"/>
                        </a:rPr>
                        <a:t>Historique du proje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configuration de la ville de Tour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Problématiques éventuelles à l’origine du proje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617760"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 u="sng">
                          <a:solidFill>
                            <a:srgbClr val="54433f"/>
                          </a:solidFill>
                          <a:uFillTx/>
                          <a:latin typeface="Calibri"/>
                          <a:ea typeface="Calibri"/>
                        </a:rPr>
                        <a:t>Financement du proje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les partenaire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le coût et sa réparti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484200"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Objectifs fixé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 u="sng">
                          <a:solidFill>
                            <a:srgbClr val="54433f"/>
                          </a:solidFill>
                          <a:uFillTx/>
                          <a:latin typeface="Calibri"/>
                          <a:ea typeface="Calibri"/>
                        </a:rPr>
                        <a:t>Du point de vue écologique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482400"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Objectifs fixé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 u="sng">
                          <a:solidFill>
                            <a:srgbClr val="54433f"/>
                          </a:solidFill>
                          <a:uFillTx/>
                          <a:latin typeface="Calibri"/>
                          <a:ea typeface="Calibri"/>
                        </a:rPr>
                        <a:t>Du point de vue économique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484200"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Objectifs fixé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 u="sng">
                          <a:solidFill>
                            <a:srgbClr val="54433f"/>
                          </a:solidFill>
                          <a:uFillTx/>
                          <a:latin typeface="Calibri"/>
                          <a:ea typeface="Calibri"/>
                        </a:rPr>
                        <a:t>Du point de vue socia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484200"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Objectifs fixé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 u="sng">
                          <a:solidFill>
                            <a:srgbClr val="54433f"/>
                          </a:solidFill>
                          <a:uFillTx/>
                          <a:latin typeface="Calibri"/>
                          <a:ea typeface="Calibri"/>
                        </a:rPr>
                        <a:t>Du point de vue sociéta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658800"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Mise en place de la première lign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 u="sng">
                          <a:solidFill>
                            <a:srgbClr val="54433f"/>
                          </a:solidFill>
                          <a:uFillTx/>
                          <a:latin typeface="Calibri"/>
                          <a:ea typeface="Calibri"/>
                        </a:rPr>
                        <a:t>choix du tracé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 u="sng">
                          <a:solidFill>
                            <a:srgbClr val="54433f"/>
                          </a:solidFill>
                          <a:uFillTx/>
                          <a:latin typeface="Calibri"/>
                          <a:ea typeface="Calibri"/>
                        </a:rPr>
                        <a:t>analyse des quartiers traversés et des stations</a:t>
                      </a:r>
                      <a:r>
                        <a:rPr b="0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515880"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Le chantier de la première lign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- </a:t>
                      </a:r>
                      <a:r>
                        <a:rPr b="0" lang="fr-FR" sz="900" spc="-1" strike="noStrike" u="sng">
                          <a:solidFill>
                            <a:srgbClr val="54433f"/>
                          </a:solidFill>
                          <a:uFillTx/>
                          <a:latin typeface="Calibri"/>
                          <a:ea typeface="Calibri"/>
                        </a:rPr>
                        <a:t>les contraintes générales concernant la première lign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658800"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Le chantier et la création du parc relai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- </a:t>
                      </a:r>
                      <a:r>
                        <a:rPr b="0" lang="fr-FR" sz="900" spc="-1" strike="noStrike" u="sng">
                          <a:solidFill>
                            <a:srgbClr val="54433f"/>
                          </a:solidFill>
                          <a:uFillTx/>
                          <a:latin typeface="Calibri"/>
                          <a:ea typeface="Calibri"/>
                        </a:rPr>
                        <a:t>les contraintes particulières à la création du parc relais et de la fin de ligne au lycée Jean Monne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</a:tbl>
          </a:graphicData>
        </a:graphic>
      </p:graphicFrame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7667640" y="58680"/>
            <a:ext cx="13906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Scénario pédagogique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187280" y="1484280"/>
          <a:ext cx="6553440" cy="5164200"/>
        </p:xfrm>
        <a:graphic>
          <a:graphicData uri="http://schemas.openxmlformats.org/drawingml/2006/table">
            <a:tbl>
              <a:tblPr/>
              <a:tblGrid>
                <a:gridCol w="2295720"/>
                <a:gridCol w="4257720"/>
              </a:tblGrid>
              <a:tr h="331920"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TAP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433f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ES ELEV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433f"/>
                    </a:solidFill>
                  </a:tcPr>
                </a:tc>
              </a:tr>
              <a:tr h="3445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é-requis – introductio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Rappel de la définition du développement durable (transversalité cours d’histoire-géographie).  Relations entre les différents acteurs économiques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3cb"/>
                    </a:solidFill>
                  </a:tcPr>
                </a:tc>
              </a:tr>
              <a:tr h="11221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é 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Analyse du projet du TRAM de Tours et réalisation d’un diaporama commu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H3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Recherche d’informations -  Travail par deux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Se répartir le travail à partir du tableau annexe 1 concernant les différentes questions abordé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Rechercher sur Internet des informations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Transmettre les informations clés en vue de réaliser un diaporama aux élèves en charge du montage via l’ENT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ae7"/>
                    </a:solidFill>
                  </a:tcPr>
                </a:tc>
              </a:tr>
              <a:tr h="140184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é 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résentation des synthèses et prise de not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H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hase conceptualisatio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m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Présentation des synthèses à l’oral à partir du diaporam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Présentation du diaporama par les élèves et prise de notes à partir d’un tableau (annexe 2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Elaboration de la synthèse à partir des notes obtenu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questionnement complémentaire à partir des points soulevés dans le tableau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construction commune de la synthèse concernant la </a:t>
                      </a: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première partie</a:t>
                      </a: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 (enjeux écologiques, économiques et sociaux du développement durable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3cb"/>
                    </a:solidFill>
                  </a:tcPr>
                </a:tc>
              </a:tr>
              <a:tr h="168264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é 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Recherche d’informations concernant les incitations gouvernementales pour d’autres projets dans le cadre du développement durable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H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Recherche d’informations et saisie des réponses à partir d’un tableau (annexe 3) – travail par deux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Prendre un exemple de projet concernant le développement durable pour un ménag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Préciser les avantages fiscaux ou financiers que cela peut entraîne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Elaboration de la synthèse à partir des notes obtenu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Echange concernant les exemples obtenu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construction commune de la synthèse concernant la </a:t>
                      </a: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seconde partie</a:t>
                      </a: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 (incitations concernant les ménages et les entreprises pour le développement durable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ae7"/>
                    </a:solidFill>
                  </a:tcPr>
                </a:tc>
              </a:tr>
              <a:tr h="28116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Evaluation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m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Evaluation sommative complémentair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3cb"/>
                    </a:solidFill>
                  </a:tcPr>
                </a:tc>
              </a:tr>
            </a:tbl>
          </a:graphicData>
        </a:graphic>
      </p:graphicFrame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7451640" y="260280"/>
            <a:ext cx="13906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Tableau de collecte des information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7236000" y="1039680"/>
            <a:ext cx="1390320" cy="98136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6"/>
          <p:cNvSpPr/>
          <p:nvPr/>
        </p:nvSpPr>
        <p:spPr>
          <a:xfrm>
            <a:off x="457200" y="2065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1492560" y="1301760"/>
            <a:ext cx="499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Annexe 1 : </a:t>
            </a:r>
            <a:r>
              <a:rPr b="1" lang="fr-FR" sz="1200" spc="-1" strike="noStrike" u="sng">
                <a:solidFill>
                  <a:srgbClr val="ffffff"/>
                </a:solidFill>
                <a:uFillTx/>
                <a:latin typeface="Arial"/>
              </a:rPr>
              <a:t>Enjeux et contraintes de l’implantation du tram à Tou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2065320"/>
          <a:ext cx="8229600" cy="4388040"/>
        </p:xfrm>
        <a:graphic>
          <a:graphicData uri="http://schemas.openxmlformats.org/drawingml/2006/table">
            <a:tbl>
              <a:tblPr/>
              <a:tblGrid>
                <a:gridCol w="3035160"/>
                <a:gridCol w="5194440"/>
              </a:tblGrid>
              <a:tr h="3920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Quelles sont les problématiques écologiques, économiques et sociales spécifiques à la ville de Tours ?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39060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Quels acteurs interviennent dans la réalisation du projet ?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5875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Quel est le coût prévisionnel du projet et comment se répartit le financement entre les différents partenaires ?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3920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Quels sont les enjeux du tram d’un point de vue écologique ?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39060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Quels sont les enjeux du tram d’un point de vue économique ?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27756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Quels sont les enjeux du tram d’un point de vue social ?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39240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Quels sont les enjeux du tram d’un point de vu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fr-FR" sz="9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sociétal ?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3902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Citez plusieurs problématiques de la ville de Tours qui ont justifié le choix du tracé de la première lign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5875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Citez des contraintes géographiques, économiques, sociales et sociétales qui ont dû être prises en compte pour l’aménagement de la première ligne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5875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En ce qui concerne l’abord du lycée Jean Monnet, précisez des exemples d’aménagements qui ont été mis en place pour faire face à certaines de ces contraintes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</a:tbl>
          </a:graphicData>
        </a:graphic>
      </p:graphicFrame>
      <p:sp>
        <p:nvSpPr>
          <p:cNvPr id="178" name="Rectangle 13"/>
          <p:cNvSpPr/>
          <p:nvPr/>
        </p:nvSpPr>
        <p:spPr>
          <a:xfrm>
            <a:off x="457200" y="2065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Scénario pédagogique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187280" y="1484280"/>
          <a:ext cx="6553440" cy="5164200"/>
        </p:xfrm>
        <a:graphic>
          <a:graphicData uri="http://schemas.openxmlformats.org/drawingml/2006/table">
            <a:tbl>
              <a:tblPr/>
              <a:tblGrid>
                <a:gridCol w="2295720"/>
                <a:gridCol w="4257720"/>
              </a:tblGrid>
              <a:tr h="331920"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TAP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433f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ES ELEV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433f"/>
                    </a:solidFill>
                  </a:tcPr>
                </a:tc>
              </a:tr>
              <a:tr h="3445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é-requis – introductio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Rappel de la définition du développement durable (transversalité cours d’histoire-géographie).  Relations entre les différents acteurs économiques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3cb"/>
                    </a:solidFill>
                  </a:tcPr>
                </a:tc>
              </a:tr>
              <a:tr h="11221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é 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Analyse du projet du TRAM de Tours et réalisation d’un diaporama commu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H3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Recherche d’informations -  Travail par deux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Se répartir le travail à partir du tableau annexe 1 concernant les différentes questions abordé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Rechercher sur Internet des informations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Transmettre les informations clés en vue de réaliser un diaporama aux élèves en charge du montage via l’ENT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ae7"/>
                    </a:solidFill>
                  </a:tcPr>
                </a:tc>
              </a:tr>
              <a:tr h="140184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é 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résentation des synthèses et prise de not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H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hase conceptualisatio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m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Présentation des synthèses à l’oral à partir du diaporam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Présentation du diaporama par les élèves et prise de notes à partir d’un tableau (annexe 2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Elaboration de la synthèse à partir des notes obtenu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questionnement complémentaire à partir des points soulevés dans le tableau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construction commune de la synthèse concernant la </a:t>
                      </a: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première partie</a:t>
                      </a: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 (enjeux écologiques, économiques et sociaux du développement durable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3cb"/>
                    </a:solidFill>
                  </a:tcPr>
                </a:tc>
              </a:tr>
              <a:tr h="168264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é 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Recherche d’informations concernant les incitations gouvernementales pour d’autres projets dans le cadre du développement durable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H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Recherche d’informations et saisie des réponses à partir d’un tableau (annexe 3) – travail par deux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Prendre un exemple de projet concernant le développement durable pour un ménag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Préciser les avantages fiscaux ou financiers que cela peut entraîne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Elaboration de la synthèse à partir des notes obtenu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Echange concernant les exemples obtenu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construction commune de la synthèse concernant la </a:t>
                      </a: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seconde partie</a:t>
                      </a: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 (incitations concernant les ménages et les entreprises pour le développement durable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ae7"/>
                    </a:solidFill>
                  </a:tcPr>
                </a:tc>
              </a:tr>
              <a:tr h="28116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Evaluation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m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Evaluation sommative complémentair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3cb"/>
                    </a:solidFill>
                  </a:tcPr>
                </a:tc>
              </a:tr>
            </a:tbl>
          </a:graphicData>
        </a:graphic>
      </p:graphicFrame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7451640" y="260280"/>
            <a:ext cx="13906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37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c00"/>
                </a:solidFill>
                <a:latin typeface="Arial"/>
              </a:rPr>
              <a:t>Analyse du tracé de la première ligne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2476440" y="1268280"/>
            <a:ext cx="4322880" cy="5040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2"/>
          <a:stretch/>
        </p:blipFill>
        <p:spPr>
          <a:xfrm>
            <a:off x="7451640" y="293760"/>
            <a:ext cx="13906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Choix pédagogiques opéré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68360" y="980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Utilisation des TI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Recherche inter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onception de synthèse sur support numériq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Travail en résea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Complémentarité travail de groupe et travail individu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Recherche d’informations et montage du diapora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Productions or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Présentation des informations à partir du diapora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Echange et ouverture lors de la conceptualis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Productions écr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Prise de no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Rédaction de la synthè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7596360" y="115920"/>
            <a:ext cx="139536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Contraintes pédagogiques et risque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6836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Maîtrise du « processus » didacti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Quelles performances attendues ? Quelles évaluations ? Les « données entrantes » permettront-elles d’aboutir aux « données sortantes » 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Nécessité de la transposition à d’autres environn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Démarche qui doit permettre à l’élève de transposer les capacités développées à d’autres environnements. Importance de la phase conceptualis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Mise en application de capacités complex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Recours à des aides méthodologiques pour certaines capacités (A.P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Gestion du temps et de la prog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Graduation de la complexité des activités en cours d’année scolai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Gestion de classe et objectivité de la démar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La gestion de classe doit imposer la règle de l’objectivit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c00"/>
                </a:solidFill>
                <a:latin typeface="Arial"/>
              </a:rPr>
              <a:t>Rôle déterminant de l’évaluation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55640" y="1197000"/>
          <a:ext cx="7488360" cy="5129280"/>
        </p:xfrm>
        <a:graphic>
          <a:graphicData uri="http://schemas.openxmlformats.org/drawingml/2006/table">
            <a:tbl>
              <a:tblPr/>
              <a:tblGrid>
                <a:gridCol w="6048360"/>
                <a:gridCol w="360360"/>
                <a:gridCol w="358920"/>
                <a:gridCol w="360360"/>
                <a:gridCol w="360360"/>
              </a:tblGrid>
              <a:tr h="14004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TI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I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T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14112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Capacités fondamental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841680">
                <a:tc>
                  <a:txBody>
                    <a:bodyPr lIns="41400" rIns="41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Analyser les données dans un articl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Comprendre le sens des questions 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Répondre correctement à une question du point de vue du style et de la syntaxe. Corriger les fautes d’orthographe et d’accord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Utiliser le vocabulaire économique et de gestio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841320">
                <a:tc>
                  <a:txBody>
                    <a:bodyPr lIns="41400" rIns="41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Rendre compte d’un travail donné devant un publi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Adapter sa prise de parole (attitude et niveau de langue)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Faire preuve d’écoute activ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Participer activement en respectant les interventions des autres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716040">
                <a:tc>
                  <a:txBody>
                    <a:bodyPr lIns="41400" rIns="41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Utiliser efficacement un moteur de recherche pour obtenir les informations attendu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Synthétiser des données (textuelles, numériques et visuelles) en vue de construire un diaporama adapté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Utiliser les fonctionnalités du réseau pour un travail de groupe effica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140040">
                <a:tc>
                  <a:txBody>
                    <a:bodyPr lIns="41400" rIns="41400" tIns="0" bIns="0" anchor="t">
                      <a:noAutofit/>
                    </a:bodyPr>
                    <a:p>
                      <a:pPr marL="457200" indent="-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Capacités liées au thèm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907920">
                <a:tc>
                  <a:txBody>
                    <a:bodyPr lIns="41400" rIns="41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Percevoir les enjeux écologiques, économiques, sociaux et sociétaux d’un projet lié au développement durabl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Déduire les contraintes que cela entraîne pour les différents acteurs économiqu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Evaluer les apports du développement durable à long term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A partir d’un exemple précis, indiquer les incitations qui peuvent être mises en place afin d’orienter les comportement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140040">
                <a:tc>
                  <a:txBody>
                    <a:bodyPr lIns="41400" rIns="41400" tIns="0" bIns="0" anchor="t">
                      <a:noAutofit/>
                    </a:bodyPr>
                    <a:p>
                      <a:pPr marL="457200" indent="-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Capacités comportemental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84132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Faire preuve de responsabilité et d’efficacité lors de la recherche d’informations et la production collective de supports numériqu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Etre autonome dans son travail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Savoir travailler en groupe de manière effica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Manifester curiosité, créativité, motivation, à travers les activités proposé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419760">
                <a:tc>
                  <a:txBody>
                    <a:bodyPr lIns="41400" rIns="41400" tIns="0" bIns="0" anchor="t">
                      <a:noAutofit/>
                    </a:bodyPr>
                    <a:p>
                      <a:pPr marL="457200" indent="-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indent="-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Note sur 2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indent="-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 gridSpan="4"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Apports didactiques et éducatif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6836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ppropriation par l’élève de son environn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vier à un apprentissage actif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uverture sur des problématiques économiques et de gestion donnant lieu à déb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Fédération d’analyses différentes dans le cadre d’un environnement comm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ontribution de l’élève à l’alimentation du processus didacti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c00"/>
                </a:solidFill>
                <a:latin typeface="Arial"/>
              </a:rPr>
              <a:t>SOMMAIRE</a:t>
            </a:r>
            <a:endParaRPr b="0" lang="en-US" sz="3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8360" y="1196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 contexte éducati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a prise en compte des environnements de l’élève dans la progression PFE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Un exemple d’application : le projet du tram de Tours (Thème 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ontraintes pédagogiques et risq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pports de la démar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Espace réservé du pied de pag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S.Glénisson - Ac Orléans Tour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Une pédagogie qui peut contribuer à mieux appréhender les nouveaux profils d’élè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Une pédagogie exigeante (?) mais surtout valorisante pour l’enseign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Espace réservé du pied de pag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Sylvie Glénisson - Ac Orléans Tour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dddddd"/>
                </a:solidFill>
                <a:latin typeface="Arial"/>
              </a:rPr>
              <a:t>Lycée Jean Monnet</a:t>
            </a:r>
            <a:br>
              <a:rPr sz="4000"/>
            </a:br>
            <a:r>
              <a:rPr b="0" lang="fr-FR" sz="4000" spc="-1" strike="noStrike">
                <a:solidFill>
                  <a:srgbClr val="dddddd"/>
                </a:solidFill>
                <a:latin typeface="Arial"/>
              </a:rPr>
              <a:t>Joué-Lès-Tours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600200"/>
          <a:ext cx="8229600" cy="4444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lèg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vironnement économique et soci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14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ège Beaulie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s urbaines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é Lès Tou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414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ège Vallée Violet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ège Arche du Lu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s d’Enseignement Prioritai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é Lès Tou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607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ège La Rabiè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ège  René Cassin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AN MI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s péri urbai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414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ège Albert Camus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BAZ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ège  Val de l’Indre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3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èges </a:t>
                      </a:r>
                      <a:r>
                        <a:rPr b="1" i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’Azay le Rideau et de Langea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s rur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"/>
              </a:rPr>
              <a:t>Conditions d’enseignemen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Arial"/>
              </a:rPr>
              <a:t>Effecti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 groupes classes (élèves de 6 second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roupe de 26 élèves non dédoublé (voire 31 l’an dernier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ertains élèves du groupe peuvent avoir choisi en parallèle l’enseignement exploratoire 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Arial"/>
              </a:rPr>
              <a:t>Environnement matéri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Équipement vidéo projecteur – accessibilité postes informatiques ponctuel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Arial"/>
              </a:rPr>
              <a:t>Horai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1h30 par semaine / année scolaire complè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PEDAGOGIE ET </a:t>
            </a:r>
            <a:br>
              <a:rPr sz="3200"/>
            </a:b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PATRIMOINE DE PROXIMITE DE L’ELEVE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Environnement national et international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Faits d’actualité économiq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Environnement lo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ontexte et problématiques de la cit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Environnement lycé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ojet d’établissement, évènements lycé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Environnement familial et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oblématiques spécifiques et varié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Applications PFEG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39640" y="141300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Quels acteurs créent la richesse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Groupe 8"/>
          <p:cNvGrpSpPr/>
          <p:nvPr/>
        </p:nvGrpSpPr>
        <p:grpSpPr>
          <a:xfrm>
            <a:off x="684360" y="2066760"/>
            <a:ext cx="3743280" cy="1467000"/>
            <a:chOff x="684360" y="2066760"/>
            <a:chExt cx="3743280" cy="1467000"/>
          </a:xfrm>
        </p:grpSpPr>
        <p:sp>
          <p:nvSpPr>
            <p:cNvPr id="120" name="Text Box 32"/>
            <p:cNvSpPr/>
            <p:nvPr/>
          </p:nvSpPr>
          <p:spPr>
            <a:xfrm>
              <a:off x="2412000" y="2066760"/>
              <a:ext cx="2015640" cy="1467000"/>
            </a:xfrm>
            <a:prstGeom prst="rect">
              <a:avLst/>
            </a:prstGeom>
            <a:solidFill>
              <a:srgbClr val="dddddd"/>
            </a:solidFill>
            <a:ln w="158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751"/>
                </a:spcBef>
                <a:buClr>
                  <a:srgbClr val="765e5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765e58"/>
                  </a:solidFill>
                  <a:latin typeface="Arial"/>
                </a:rPr>
                <a:t>Sondage besoins d’un élève de second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spcBef>
                  <a:spcPts val="751"/>
                </a:spcBef>
                <a:buClr>
                  <a:srgbClr val="765e5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765e58"/>
                  </a:solidFill>
                  <a:latin typeface="Arial"/>
                </a:rPr>
                <a:t>Décision de fermeture de 3 collèges en Indre et Loir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1" name="Picture 2" descr="http://clg-arche-du-lude-joue-les-tours.tice.ac-orleans-tours.fr/php5/sobre_files/shapeimage_3.jpg"/>
            <p:cNvPicPr/>
            <p:nvPr/>
          </p:nvPicPr>
          <p:blipFill>
            <a:blip r:embed="rId1"/>
            <a:stretch/>
          </p:blipFill>
          <p:spPr>
            <a:xfrm>
              <a:off x="684360" y="2066760"/>
              <a:ext cx="1535760" cy="123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Text Box 14"/>
          <p:cNvSpPr/>
          <p:nvPr/>
        </p:nvSpPr>
        <p:spPr>
          <a:xfrm>
            <a:off x="4643280" y="141300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Qu’est-ce qu’une entreprise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Groupe 3"/>
          <p:cNvGrpSpPr/>
          <p:nvPr/>
        </p:nvGrpSpPr>
        <p:grpSpPr>
          <a:xfrm>
            <a:off x="4734000" y="2066760"/>
            <a:ext cx="3600360" cy="1592280"/>
            <a:chOff x="4734000" y="2066760"/>
            <a:chExt cx="3600360" cy="1592280"/>
          </a:xfrm>
        </p:grpSpPr>
        <p:pic>
          <p:nvPicPr>
            <p:cNvPr id="124" name="Picture 20" descr="Description de l'image  LogoForclum.gif.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246720" y="3290760"/>
              <a:ext cx="208764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22"/>
            <p:cNvSpPr/>
            <p:nvPr/>
          </p:nvSpPr>
          <p:spPr>
            <a:xfrm>
              <a:off x="6389640" y="2066760"/>
              <a:ext cx="1871640" cy="9464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765e58"/>
                  </a:solidFill>
                  <a:latin typeface="Arial"/>
                </a:rPr>
                <a:t>Analyse d’une entreprise locale effectuant des travaux au lycé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6" name="Picture 24" descr="L'entreprise jocondienne n'a pas encore modifié son nom sur ses façades."/>
            <p:cNvPicPr/>
            <p:nvPr/>
          </p:nvPicPr>
          <p:blipFill>
            <a:blip r:embed="rId4"/>
            <a:stretch/>
          </p:blipFill>
          <p:spPr>
            <a:xfrm>
              <a:off x="4734000" y="2327040"/>
              <a:ext cx="1439640" cy="1211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Text Box 13"/>
          <p:cNvSpPr/>
          <p:nvPr/>
        </p:nvSpPr>
        <p:spPr>
          <a:xfrm>
            <a:off x="468360" y="330372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Comment l’ouverture internationale influence-t-elle le comportement de l’entreprise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Groupe 1"/>
          <p:cNvGrpSpPr/>
          <p:nvPr/>
        </p:nvGrpSpPr>
        <p:grpSpPr>
          <a:xfrm>
            <a:off x="630360" y="4484520"/>
            <a:ext cx="3435120" cy="2055960"/>
            <a:chOff x="630360" y="4484520"/>
            <a:chExt cx="3435120" cy="2055960"/>
          </a:xfrm>
        </p:grpSpPr>
        <p:pic>
          <p:nvPicPr>
            <p:cNvPr id="129" name="Picture 16" descr="Fichier:Logo IKEA.svg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888840" y="4643280"/>
              <a:ext cx="16668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31"/>
            <p:cNvSpPr/>
            <p:nvPr/>
          </p:nvSpPr>
          <p:spPr>
            <a:xfrm>
              <a:off x="630360" y="5368680"/>
              <a:ext cx="1944720" cy="1101960"/>
            </a:xfrm>
            <a:prstGeom prst="rect">
              <a:avLst/>
            </a:prstGeom>
            <a:solidFill>
              <a:srgbClr val="dddddd"/>
            </a:solidFill>
            <a:ln w="158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spcBef>
                  <a:spcPts val="751"/>
                </a:spcBef>
                <a:buClr>
                  <a:srgbClr val="765e5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765e58"/>
                  </a:solidFill>
                  <a:latin typeface="Arial"/>
                </a:rPr>
                <a:t>Impact implantation IKEA sur les concurrents locau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171360" indent="-171360">
                <a:spcBef>
                  <a:spcPts val="751"/>
                </a:spcBef>
                <a:buClr>
                  <a:srgbClr val="765e5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765e58"/>
                  </a:solidFill>
                  <a:latin typeface="Arial"/>
                </a:rPr>
                <a:t>Simulation projet export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1" name="Picture 23" descr=""/>
            <p:cNvPicPr/>
            <p:nvPr/>
          </p:nvPicPr>
          <p:blipFill>
            <a:blip r:embed="rId7"/>
            <a:stretch/>
          </p:blipFill>
          <p:spPr>
            <a:xfrm>
              <a:off x="2643120" y="4484520"/>
              <a:ext cx="965160" cy="96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22" descr=""/>
            <p:cNvPicPr/>
            <p:nvPr/>
          </p:nvPicPr>
          <p:blipFill>
            <a:blip r:embed="rId8"/>
            <a:stretch/>
          </p:blipFill>
          <p:spPr>
            <a:xfrm>
              <a:off x="2643120" y="5533920"/>
              <a:ext cx="1422360" cy="100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Text Box 12"/>
          <p:cNvSpPr/>
          <p:nvPr/>
        </p:nvSpPr>
        <p:spPr>
          <a:xfrm>
            <a:off x="4424400" y="3438360"/>
            <a:ext cx="445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Comment l’entreprise crée-t-elle de la valeur ajoutée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Groupe 32"/>
          <p:cNvGrpSpPr/>
          <p:nvPr/>
        </p:nvGrpSpPr>
        <p:grpSpPr>
          <a:xfrm>
            <a:off x="4643280" y="4184640"/>
            <a:ext cx="3826080" cy="2351160"/>
            <a:chOff x="4643280" y="4184640"/>
            <a:chExt cx="3826080" cy="2351160"/>
          </a:xfrm>
        </p:grpSpPr>
        <p:sp>
          <p:nvSpPr>
            <p:cNvPr id="135" name="Text Box 31"/>
            <p:cNvSpPr/>
            <p:nvPr/>
          </p:nvSpPr>
          <p:spPr>
            <a:xfrm>
              <a:off x="6524280" y="4869720"/>
              <a:ext cx="1945080" cy="1101960"/>
            </a:xfrm>
            <a:prstGeom prst="rect">
              <a:avLst/>
            </a:prstGeom>
            <a:solidFill>
              <a:srgbClr val="dddddd"/>
            </a:solidFill>
            <a:ln w="158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spcBef>
                  <a:spcPts val="751"/>
                </a:spcBef>
                <a:buClr>
                  <a:srgbClr val="765e5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765e58"/>
                  </a:solidFill>
                  <a:latin typeface="Arial"/>
                </a:rPr>
                <a:t>Création valeur ajoutée filière ameubleme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171360" indent="-171360">
                <a:spcBef>
                  <a:spcPts val="751"/>
                </a:spcBef>
                <a:buClr>
                  <a:srgbClr val="765e5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765e58"/>
                  </a:solidFill>
                  <a:latin typeface="Arial"/>
                </a:rPr>
                <a:t>Transposition jeu sérieu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6" name="Picture 29" descr="http://www.bebe-ethique.fr/components/com_virtuemart/shop_image/product/Catapulte_en_boi_4bddbc4fdfe4c.jpg"/>
            <p:cNvPicPr/>
            <p:nvPr/>
          </p:nvPicPr>
          <p:blipFill>
            <a:blip r:embed="rId9"/>
            <a:stretch/>
          </p:blipFill>
          <p:spPr>
            <a:xfrm>
              <a:off x="4680360" y="5513760"/>
              <a:ext cx="1474920" cy="102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31" descr="http://www.justacote.com/photos_entreprises/ikea-tours-1303822857.jpg"/>
            <p:cNvPicPr/>
            <p:nvPr/>
          </p:nvPicPr>
          <p:blipFill>
            <a:blip r:embed="rId10"/>
            <a:stretch/>
          </p:blipFill>
          <p:spPr>
            <a:xfrm>
              <a:off x="4643280" y="4184640"/>
              <a:ext cx="1519920" cy="1190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" dur="20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9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4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9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"/>
              </a:rPr>
              <a:t>Applications PFEG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398520" y="11970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Comment l’entreprise fixe-t-elle le prix d’un produit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4643280" y="393372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Quelles sont les relations entre les acteurs économiques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468360" y="371628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Développement durable : contrainte ou opportunité pour une entreprise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4643280" y="126828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Comment l’entreprise se lance-t-elle sur un nouveau marché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Groupe 2"/>
          <p:cNvGrpSpPr/>
          <p:nvPr/>
        </p:nvGrpSpPr>
        <p:grpSpPr>
          <a:xfrm>
            <a:off x="539640" y="4896000"/>
            <a:ext cx="3891240" cy="1277640"/>
            <a:chOff x="539640" y="4896000"/>
            <a:chExt cx="3891240" cy="1277640"/>
          </a:xfrm>
        </p:grpSpPr>
        <p:pic>
          <p:nvPicPr>
            <p:cNvPr id="144" name="Picture 18" descr=""/>
            <p:cNvPicPr/>
            <p:nvPr/>
          </p:nvPicPr>
          <p:blipFill>
            <a:blip r:embed="rId1"/>
            <a:stretch/>
          </p:blipFill>
          <p:spPr>
            <a:xfrm>
              <a:off x="539640" y="4896000"/>
              <a:ext cx="1800360" cy="12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31"/>
            <p:cNvSpPr/>
            <p:nvPr/>
          </p:nvSpPr>
          <p:spPr>
            <a:xfrm>
              <a:off x="2486160" y="5065560"/>
              <a:ext cx="1944720" cy="824040"/>
            </a:xfrm>
            <a:prstGeom prst="rect">
              <a:avLst/>
            </a:prstGeom>
            <a:solidFill>
              <a:srgbClr val="dddddd"/>
            </a:solidFill>
            <a:ln w="158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spcBef>
                  <a:spcPts val="751"/>
                </a:spcBef>
                <a:buClr>
                  <a:srgbClr val="765e5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765e58"/>
                  </a:solidFill>
                  <a:latin typeface="Arial"/>
                </a:rPr>
                <a:t>Etude des objectifs et des contraintes du projet du tram à Tou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Groupe 1"/>
          <p:cNvGrpSpPr/>
          <p:nvPr/>
        </p:nvGrpSpPr>
        <p:grpSpPr>
          <a:xfrm>
            <a:off x="458640" y="2060640"/>
            <a:ext cx="4046760" cy="1519200"/>
            <a:chOff x="458640" y="2060640"/>
            <a:chExt cx="4046760" cy="1519200"/>
          </a:xfrm>
        </p:grpSpPr>
        <p:pic>
          <p:nvPicPr>
            <p:cNvPr id="147" name="Picture 12" descr=""/>
            <p:cNvPicPr/>
            <p:nvPr/>
          </p:nvPicPr>
          <p:blipFill>
            <a:blip r:embed="rId2"/>
            <a:stretch/>
          </p:blipFill>
          <p:spPr>
            <a:xfrm>
              <a:off x="458640" y="2060640"/>
              <a:ext cx="2025720" cy="15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31"/>
            <p:cNvSpPr/>
            <p:nvPr/>
          </p:nvSpPr>
          <p:spPr>
            <a:xfrm>
              <a:off x="2560680" y="2219400"/>
              <a:ext cx="1944720" cy="1189080"/>
            </a:xfrm>
            <a:prstGeom prst="rect">
              <a:avLst/>
            </a:prstGeom>
            <a:solidFill>
              <a:srgbClr val="dddddd"/>
            </a:solidFill>
            <a:ln w="158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spcBef>
                  <a:spcPts val="751"/>
                </a:spcBef>
                <a:buClr>
                  <a:srgbClr val="765e5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765e58"/>
                  </a:solidFill>
                  <a:latin typeface="Arial"/>
                </a:rPr>
                <a:t>Analyse des entreprises d’élevage aviaire et de la fixation du prix des volailles en France et au Mal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Groupe 3"/>
          <p:cNvGrpSpPr/>
          <p:nvPr/>
        </p:nvGrpSpPr>
        <p:grpSpPr>
          <a:xfrm>
            <a:off x="4808520" y="4896000"/>
            <a:ext cx="3867120" cy="1466640"/>
            <a:chOff x="4808520" y="4896000"/>
            <a:chExt cx="3867120" cy="1466640"/>
          </a:xfrm>
        </p:grpSpPr>
        <p:sp>
          <p:nvSpPr>
            <p:cNvPr id="150" name="Text Box 31"/>
            <p:cNvSpPr/>
            <p:nvPr/>
          </p:nvSpPr>
          <p:spPr>
            <a:xfrm>
              <a:off x="6730920" y="4935600"/>
              <a:ext cx="1944720" cy="1371600"/>
            </a:xfrm>
            <a:prstGeom prst="rect">
              <a:avLst/>
            </a:prstGeom>
            <a:solidFill>
              <a:srgbClr val="dddddd"/>
            </a:solidFill>
            <a:ln w="158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spcBef>
                  <a:spcPts val="751"/>
                </a:spcBef>
                <a:buClr>
                  <a:srgbClr val="765e5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765e58"/>
                  </a:solidFill>
                  <a:latin typeface="Arial"/>
                </a:rPr>
                <a:t>Présentation journalistique orale écrite (support numérique ou papier) d’un fait d’actualité à incidences économiqu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1" name="Picture 20" descr=""/>
            <p:cNvPicPr/>
            <p:nvPr/>
          </p:nvPicPr>
          <p:blipFill>
            <a:blip r:embed="rId3"/>
            <a:stretch/>
          </p:blipFill>
          <p:spPr>
            <a:xfrm>
              <a:off x="4808520" y="4896000"/>
              <a:ext cx="1792080" cy="146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" name="AutoShape 20"/>
          <p:cNvSpPr/>
          <p:nvPr/>
        </p:nvSpPr>
        <p:spPr>
          <a:xfrm>
            <a:off x="63360" y="-628560"/>
            <a:ext cx="1476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22"/>
          <p:cNvSpPr/>
          <p:nvPr/>
        </p:nvSpPr>
        <p:spPr>
          <a:xfrm>
            <a:off x="216000" y="-476280"/>
            <a:ext cx="1476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Groupe 6"/>
          <p:cNvGrpSpPr/>
          <p:nvPr/>
        </p:nvGrpSpPr>
        <p:grpSpPr>
          <a:xfrm>
            <a:off x="5162400" y="1973160"/>
            <a:ext cx="3546720" cy="1900440"/>
            <a:chOff x="5162400" y="1973160"/>
            <a:chExt cx="3546720" cy="1900440"/>
          </a:xfrm>
        </p:grpSpPr>
        <p:sp>
          <p:nvSpPr>
            <p:cNvPr id="155" name="Text Box 31"/>
            <p:cNvSpPr/>
            <p:nvPr/>
          </p:nvSpPr>
          <p:spPr>
            <a:xfrm>
              <a:off x="6764040" y="2173680"/>
              <a:ext cx="1945080" cy="1284480"/>
            </a:xfrm>
            <a:prstGeom prst="rect">
              <a:avLst/>
            </a:prstGeom>
            <a:solidFill>
              <a:srgbClr val="dddddd"/>
            </a:solidFill>
            <a:ln w="158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spcBef>
                  <a:spcPts val="751"/>
                </a:spcBef>
                <a:buClr>
                  <a:srgbClr val="765e5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765e58"/>
                  </a:solidFill>
                  <a:latin typeface="Arial"/>
                </a:rPr>
                <a:t>Présentation d’une action commerciale BT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171360" indent="-171360">
                <a:spcBef>
                  <a:spcPts val="751"/>
                </a:spcBef>
                <a:buClr>
                  <a:srgbClr val="765e5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765e58"/>
                  </a:solidFill>
                  <a:latin typeface="Arial"/>
                </a:rPr>
                <a:t>Création d’une cible à partir d’un réseau soci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6" name="Picture 24" descr="http://noviseo.fr/wp-content/uploads/2012/03/facebook.jpg"/>
            <p:cNvPicPr/>
            <p:nvPr/>
          </p:nvPicPr>
          <p:blipFill>
            <a:blip r:embed="rId4"/>
            <a:stretch/>
          </p:blipFill>
          <p:spPr>
            <a:xfrm>
              <a:off x="5435280" y="3238920"/>
              <a:ext cx="101484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Image 29" descr="I:\Elèves BTS 2008\. 003.jpg"/>
            <p:cNvPicPr/>
            <p:nvPr/>
          </p:nvPicPr>
          <p:blipFill>
            <a:blip r:embed="rId5"/>
            <a:stretch/>
          </p:blipFill>
          <p:spPr>
            <a:xfrm>
              <a:off x="5162400" y="1973160"/>
              <a:ext cx="1428120" cy="1197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6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1" dur="2000" fill="hold"/>
                                        <p:tgtEl>
                                          <p:spTgt spid="1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6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1" dur="20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"/>
              </a:rPr>
              <a:t>Projet du tram de Tours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900000" y="1557360"/>
          <a:ext cx="7272360" cy="4683240"/>
        </p:xfrm>
        <a:graphic>
          <a:graphicData uri="http://schemas.openxmlformats.org/drawingml/2006/table">
            <a:tbl>
              <a:tblPr/>
              <a:tblGrid>
                <a:gridCol w="2100240"/>
                <a:gridCol w="5172120"/>
              </a:tblGrid>
              <a:tr h="1008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ème 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ème 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433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Développement durable : contrainte ou opportunité pour l’entreprise 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lles sont les relations entre les acteurs 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433f"/>
                    </a:solidFill>
                  </a:tcPr>
                </a:tc>
              </a:tr>
              <a:tr h="268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ion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Incitations, Rupture technologique, Choix sous contrain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3cb"/>
                    </a:solidFill>
                  </a:tcPr>
                </a:tc>
              </a:tr>
              <a:tr h="2333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cription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On montrera comment ce qui est perçu souvent comme une contrainte nouvelle peut devenir une opportunité de création de richesses. Dans une perspective à long terme, les relations entre les enjeux écologiques, économiques et sociaux seront mises en avant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On montrera que des incitations peuvent être mises en place afin d’orienter les comportements vers la prise en compte de contraintes, notamment écologiqu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ae7"/>
                    </a:solidFill>
                  </a:tcPr>
                </a:tc>
              </a:tr>
              <a:tr h="268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mps / Progress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2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4h30 (3 séquences) en fin d’année scolair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3cb"/>
                    </a:solidFill>
                  </a:tcPr>
                </a:tc>
              </a:tr>
              <a:tr h="536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yens organisationne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Accessibilité internet et logiciel powerpoint pour le travail par deux ou trois (recherche informations, réalisation d’un diaporama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ae7"/>
                    </a:solidFill>
                  </a:tcPr>
                </a:tc>
              </a:tr>
              <a:tr h="268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alu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Sommative   (grille annexe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3cb"/>
                    </a:solidFill>
                  </a:tcPr>
                </a:tc>
              </a:tr>
            </a:tbl>
          </a:graphicData>
        </a:graphic>
      </p:graphicFrame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7596360" y="79200"/>
            <a:ext cx="139032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Exploitation du patrimoine de proximité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229600" cy="733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2124000" y="3213000"/>
            <a:ext cx="460872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08:10:44Z</dcterms:created>
  <dc:creator>sylvie.glenisson</dc:creator>
  <dc:description/>
  <dc:language>en-US</dc:language>
  <cp:lastModifiedBy>Famille</cp:lastModifiedBy>
  <dcterms:modified xsi:type="dcterms:W3CDTF">2012-05-13T15:01:26Z</dcterms:modified>
  <cp:revision>78</cp:revision>
  <dc:subject/>
  <dc:title>Diapositive 1</dc:title>
</cp:coreProperties>
</file>