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3F5D-3760-4AA8-87EB-439E228D89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18C8-3803-435D-8C1A-18416B8480FF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1C3-9A02-486B-83F8-BCF26F82BACE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6830-CCB8-472D-BD13-7741E5660A3C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permanences SAMU sont en nég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DE7B-B676-4163-9842-9F42D51769BB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063-386D-4CCB-A9BE-06529EB2067D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100F-F5A1-4D37-8FA2-03226A9AB332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948E-1E53-474D-81A1-4A2851900636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9774-8FF0-4877-9514-785E49D3D319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30E9-C704-4779-8049-9FAC44663F26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97BC-6AD7-40E1-9B83-CB9869C1B071}" type="slidenum">
              <a:rPr b="0" lang="fr-FR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194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48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140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194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48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8DC-60B0-4D18-A117-312C4517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717-1032-40C0-833E-1E9E4B01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F01-8875-43F1-8B03-8D4EDA81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AD3-3D5B-4B62-9916-C4B1974F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F43-017C-4930-A501-D93B309A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3581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CB8-6D2D-44B8-8EFC-3020496C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E9A-0E91-4CC1-A154-95F3B75C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CA2-2909-4922-BC1E-6B116761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E3F-0362-4E48-8753-39DBE740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DD9-1C60-4D97-AC13-B7473E85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724-4421-4C87-AF84-583DE47D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194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4840" y="121932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0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194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4840" y="376668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444-8CB8-4F9F-BD80-C8E4C223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3581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3720" y="376668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21932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6668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151920" y="990720"/>
            <a:ext cx="8686800" cy="152280"/>
            <a:chOff x="151920" y="990720"/>
            <a:chExt cx="8686800" cy="152280"/>
          </a:xfrm>
        </p:grpSpPr>
        <p:sp>
          <p:nvSpPr>
            <p:cNvPr id="7" name="AutoShape 9"/>
            <p:cNvSpPr/>
            <p:nvPr/>
          </p:nvSpPr>
          <p:spPr>
            <a:xfrm>
              <a:off x="599760" y="990720"/>
              <a:ext cx="8238960" cy="15228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>
              <a:off x="151560" y="990720"/>
              <a:ext cx="462600" cy="152280"/>
            </a:xfrm>
            <a:prstGeom prst="flowChartDelay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" name="Text Box 13"/>
          <p:cNvSpPr/>
          <p:nvPr/>
        </p:nvSpPr>
        <p:spPr>
          <a:xfrm>
            <a:off x="6156360" y="18900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3cc"/>
                </a:solidFill>
                <a:latin typeface="Arial"/>
              </a:rPr>
              <a:t>Contexte de niveau I Ambulances du Maur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" name="Group 9"/>
          <p:cNvGrpSpPr/>
          <p:nvPr/>
        </p:nvGrpSpPr>
        <p:grpSpPr>
          <a:xfrm>
            <a:off x="-36000" y="-6120"/>
            <a:ext cx="874080" cy="844200"/>
            <a:chOff x="-36000" y="-6120"/>
            <a:chExt cx="874080" cy="844200"/>
          </a:xfrm>
        </p:grpSpPr>
        <p:sp>
          <p:nvSpPr>
            <p:cNvPr id="11" name="Forme 2057"/>
            <p:cNvSpPr/>
            <p:nvPr/>
          </p:nvSpPr>
          <p:spPr>
            <a:xfrm>
              <a:off x="488880" y="0"/>
              <a:ext cx="268200" cy="433440"/>
            </a:xfrm>
            <a:prstGeom prst="pie">
              <a:avLst/>
            </a:prstGeom>
            <a:solidFill>
              <a:srgbClr val="c000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orme 2058"/>
            <p:cNvSpPr/>
            <p:nvPr/>
          </p:nvSpPr>
          <p:spPr>
            <a:xfrm>
              <a:off x="411120" y="315720"/>
              <a:ext cx="426960" cy="393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orme 2059"/>
            <p:cNvSpPr/>
            <p:nvPr/>
          </p:nvSpPr>
          <p:spPr>
            <a:xfrm>
              <a:off x="245880" y="311040"/>
              <a:ext cx="257040" cy="504720"/>
            </a:xfrm>
            <a:prstGeom prst="pie">
              <a:avLst/>
            </a:prstGeom>
            <a:solidFill>
              <a:srgbClr val="507c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orme 2060"/>
            <p:cNvSpPr/>
            <p:nvPr/>
          </p:nvSpPr>
          <p:spPr>
            <a:xfrm rot="1086000">
              <a:off x="0" y="53280"/>
              <a:ext cx="431640" cy="299880"/>
            </a:xfrm>
            <a:prstGeom prst="pie">
              <a:avLst/>
            </a:prstGeom>
            <a:solidFill>
              <a:srgbClr val="cc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Ellipse 2061"/>
            <p:cNvSpPr/>
            <p:nvPr/>
          </p:nvSpPr>
          <p:spPr>
            <a:xfrm>
              <a:off x="331560" y="730440"/>
              <a:ext cx="104760" cy="107640"/>
            </a:xfrm>
            <a:prstGeom prst="ellipse">
              <a:avLst/>
            </a:prstGeom>
            <a:solidFill>
              <a:srgbClr val="c0004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2C2B-4C5F-46AD-A3DD-905F704F759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5867280" y="3933720"/>
            <a:ext cx="1057320" cy="932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exte de niveau I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3657600" cy="126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Ambulances du Maurin</a:t>
            </a:r>
            <a:r>
              <a:rPr b="0" lang="fr-FR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3857760" y="2786040"/>
            <a:ext cx="4724280" cy="3591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jet SI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Évolutions du 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éveloppement d’une application autour de la base de donn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e en place d’une solution de géo-localis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herche d’une so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stion du proj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4737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tivité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057320" cy="932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1079280" cy="930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971640" y="2924280"/>
            <a:ext cx="1076400" cy="118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971640" y="4437000"/>
            <a:ext cx="990360" cy="1257480"/>
          </a:xfrm>
          <a:prstGeom prst="rect">
            <a:avLst/>
          </a:prstGeom>
          <a:ln w="0">
            <a:noFill/>
          </a:ln>
        </p:spPr>
      </p:pic>
      <p:sp>
        <p:nvSpPr>
          <p:cNvPr id="113" name="Line 9"/>
          <p:cNvSpPr/>
          <p:nvPr/>
        </p:nvSpPr>
        <p:spPr>
          <a:xfrm>
            <a:off x="2409840" y="1989000"/>
            <a:ext cx="4610160" cy="1582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2484360" y="3645000"/>
            <a:ext cx="45356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2484360" y="3736440"/>
            <a:ext cx="4527720" cy="1420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81400">
            <a:off x="2483640" y="213336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égulier ou exceptionn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 rot="20628600">
            <a:off x="2843640" y="414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rman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40000" y="3068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égulier ou exceptionn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orts du SI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es enjeux stratégiques 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méliorer les services rendus aux pati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ieux planifier le travail des employé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minuer les temps d’atten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poser de moyens proportionnés aux besoi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ugmenter le nombre de transpor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osantes du SI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0" y="4149720"/>
            <a:ext cx="2627280" cy="1584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rganisationnels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Anticipa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Régula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43480" y="1572840"/>
            <a:ext cx="3208680" cy="1120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66"/>
            </a:solidFill>
            <a:round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chnologiques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itement de l’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4076640"/>
            <a:ext cx="2577960" cy="15130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umains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éte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lationn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Line 9"/>
          <p:cNvSpPr/>
          <p:nvPr/>
        </p:nvSpPr>
        <p:spPr>
          <a:xfrm flipH="1">
            <a:off x="1834920" y="2781360"/>
            <a:ext cx="1081080" cy="143964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651280" y="2708280"/>
            <a:ext cx="1081080" cy="151272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626920" y="4869000"/>
            <a:ext cx="3529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raint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0" y="4149720"/>
            <a:ext cx="2627280" cy="1584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mporelles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Astrein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Urgenc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791080" y="1388520"/>
            <a:ext cx="3921480" cy="1273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66"/>
            </a:solidFill>
            <a:round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églementaires et contractuel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Équip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mps de trav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ualification du personn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688000" y="4076640"/>
            <a:ext cx="3456000" cy="15130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nes de disponibilité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umain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tériel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834920" y="2708280"/>
            <a:ext cx="1152360" cy="151272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H="1" flipV="1">
            <a:off x="5940000" y="2781000"/>
            <a:ext cx="792360" cy="136836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2626920" y="4869000"/>
            <a:ext cx="302436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5097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cessus prise en charge d’une mission 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eur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client, régulat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 déclencheur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appel [patient/Hopital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ivité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recueil informations sur le transport, recherche disponibilit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s résultant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déclenchement d’une mi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production d’un dev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531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cessus prise en charge d’un patient : mission de transpor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eur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client, régulateur, ambulanc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 déclencheur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demande mission par le régulat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Activité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 contrôle des éléments de la mission et réalisation du tran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Événements résultant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:</a:t>
            </a:r>
            <a:br>
              <a:rPr sz="2800"/>
            </a:b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compte-rendu au régulate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production des documents de fin de mission (facture, transfert, etc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5313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rganisation du planning hebdomadair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teu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régulateur, ambulancier, institutionnels (Établissements sanitai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Événement déclencheu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début période / absence / immobilisation véhic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tivité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MAJ du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Événement résulta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Planning mis à j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lutions applicativ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12500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Organisation du planning prévisionnel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- application tableur qui offre une vue « personnel » : constitution des équi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Suivi des missions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– bdd pour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saisie des mi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recherche disponibilit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décompte he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* statist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8:45:49Z</dcterms:created>
  <dc:creator>reseaucerta.org</dc:creator>
  <dc:description/>
  <dc:language>en-US</dc:language>
  <cp:lastModifiedBy>CD</cp:lastModifiedBy>
  <dcterms:modified xsi:type="dcterms:W3CDTF">2008-09-12T16:35:51Z</dcterms:modified>
  <cp:revision>21</cp:revision>
  <dc:subject/>
  <dc:title>Contexte de niveau I </dc:title>
</cp:coreProperties>
</file>