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6A1B-54EA-40D4-B3EC-F0C913B2D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08B7-0AD1-4F85-B213-C143FF361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918A-FD89-45A1-B95A-4150C6419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A562-B16E-45D5-9672-2301145E7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68D2-2C21-4221-B52C-DCB4E16BB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5A5F-84BF-4FA0-9FDB-B0B6E77E7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764D-13EC-498F-8D1C-6F9E5D66B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2AB0-1D6C-4B14-AF70-F299B1C80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A7DB-025E-4A83-89AF-15284A8EB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90F9-1929-4B39-BFB8-427AD61F7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F1E1-050F-4D16-960B-9D4858A4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6F92-1718-4346-A804-FB6DC71C8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1A61D-D158-493F-8A86-345A58E991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19920" y="2590920"/>
            <a:ext cx="1143000" cy="107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876920" y="2590920"/>
            <a:ext cx="1143000" cy="107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91120" y="2590920"/>
            <a:ext cx="685800" cy="107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48120" y="2590920"/>
            <a:ext cx="1143000" cy="107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05120" y="2590920"/>
            <a:ext cx="1143000" cy="107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2590920"/>
            <a:ext cx="1143000" cy="107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162920" y="2590920"/>
            <a:ext cx="1295280" cy="2600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alle de réunion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ommune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19920" y="4114800"/>
            <a:ext cx="114300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905360" y="4114800"/>
            <a:ext cx="114300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219560" y="4114800"/>
            <a:ext cx="68580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76560" y="4114800"/>
            <a:ext cx="114300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33560" y="4114800"/>
            <a:ext cx="114300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90560" y="4114800"/>
            <a:ext cx="114300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4867200"/>
            <a:ext cx="228600" cy="2286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B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4162320"/>
            <a:ext cx="213372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Ligue de volley-ball – VLAN 1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952880" y="4162320"/>
            <a:ext cx="213372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Ligue de badminton VLAN 1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3476520"/>
            <a:ext cx="213372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Ligue d’escrime – VLAN 1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47920" y="3476520"/>
            <a:ext cx="213336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Ligue de volley-ball – VLAN 1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76400" y="25462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33ff"/>
                </a:solidFill>
                <a:latin typeface="Wingdings 2"/>
                <a:ea typeface="Wingdings 2"/>
              </a:rPr>
              <a:t></a:t>
            </a:r>
            <a:r>
              <a:rPr b="0" lang="en-US" sz="12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9933ff"/>
                </a:solidFill>
                <a:latin typeface="Wingdings 2"/>
                <a:ea typeface="Wingdings 2"/>
              </a:rPr>
              <a:t>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47840" y="25462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33ff"/>
                </a:solidFill>
                <a:latin typeface="Wingdings 2"/>
                <a:ea typeface="Wingdings 2"/>
              </a:rPr>
              <a:t></a:t>
            </a:r>
            <a:r>
              <a:rPr b="0" lang="en-US" sz="12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9933ff"/>
                </a:solidFill>
                <a:latin typeface="Wingdings 2"/>
                <a:ea typeface="Wingdings 2"/>
              </a:rPr>
              <a:t>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19640" y="25462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33ff"/>
                </a:solidFill>
                <a:latin typeface="Wingdings 2"/>
                <a:ea typeface="Wingdings 2"/>
              </a:rPr>
              <a:t></a:t>
            </a:r>
            <a:r>
              <a:rPr b="0" lang="en-US" sz="12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9933ff"/>
                </a:solidFill>
                <a:latin typeface="Wingdings 2"/>
                <a:ea typeface="Wingdings 2"/>
              </a:rPr>
              <a:t>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57800" y="25462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33ff"/>
                </a:solidFill>
                <a:latin typeface="Wingdings 2"/>
                <a:ea typeface="Wingdings 2"/>
              </a:rPr>
              <a:t></a:t>
            </a:r>
            <a:r>
              <a:rPr b="0" lang="en-US" sz="12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9933ff"/>
                </a:solidFill>
                <a:latin typeface="Wingdings 2"/>
                <a:ea typeface="Wingdings 2"/>
              </a:rPr>
              <a:t>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315120" y="2546280"/>
            <a:ext cx="54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33ff"/>
                </a:solidFill>
                <a:latin typeface="Wingdings 2"/>
                <a:ea typeface="Wingdings 2"/>
              </a:rPr>
              <a:t></a:t>
            </a:r>
            <a:r>
              <a:rPr b="0" lang="en-US" sz="12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9933ff"/>
                </a:solidFill>
                <a:latin typeface="Wingdings 2"/>
                <a:ea typeface="Wingdings 2"/>
              </a:rPr>
              <a:t>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57320" y="49546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33ff"/>
                </a:solidFill>
                <a:latin typeface="Wingdings 2"/>
                <a:ea typeface="Wingdings 2"/>
              </a:rPr>
              <a:t></a:t>
            </a:r>
            <a:r>
              <a:rPr b="0" lang="en-US" sz="12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9933ff"/>
                </a:solidFill>
                <a:latin typeface="Wingdings 2"/>
                <a:ea typeface="Wingdings 2"/>
              </a:rPr>
              <a:t>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09680" y="49435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33ff"/>
                </a:solidFill>
                <a:latin typeface="Wingdings 2"/>
                <a:ea typeface="Wingdings 2"/>
              </a:rPr>
              <a:t></a:t>
            </a:r>
            <a:r>
              <a:rPr b="0" lang="en-US" sz="12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9933ff"/>
                </a:solidFill>
                <a:latin typeface="Wingdings 2"/>
                <a:ea typeface="Wingdings 2"/>
              </a:rPr>
              <a:t>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00560" y="49546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33ff"/>
                </a:solidFill>
                <a:latin typeface="Wingdings 2"/>
                <a:ea typeface="Wingdings 2"/>
              </a:rPr>
              <a:t></a:t>
            </a:r>
            <a:r>
              <a:rPr b="0" lang="en-US" sz="12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9933ff"/>
                </a:solidFill>
                <a:latin typeface="Wingdings 2"/>
                <a:ea typeface="Wingdings 2"/>
              </a:rPr>
              <a:t>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238720" y="49546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33ff"/>
                </a:solidFill>
                <a:latin typeface="Wingdings 2"/>
                <a:ea typeface="Wingdings 2"/>
              </a:rPr>
              <a:t></a:t>
            </a:r>
            <a:r>
              <a:rPr b="0" lang="en-US" sz="12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9933ff"/>
                </a:solidFill>
                <a:latin typeface="Wingdings 2"/>
                <a:ea typeface="Wingdings 2"/>
              </a:rPr>
              <a:t>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49435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33ff"/>
                </a:solidFill>
                <a:latin typeface="Wingdings 2"/>
                <a:ea typeface="Wingdings 2"/>
              </a:rPr>
              <a:t></a:t>
            </a:r>
            <a:r>
              <a:rPr b="0" lang="en-US" sz="12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9933ff"/>
                </a:solidFill>
                <a:latin typeface="Wingdings 2"/>
                <a:ea typeface="Wingdings 2"/>
              </a:rPr>
              <a:t>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182080" y="335268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33ff"/>
                </a:solidFill>
                <a:latin typeface="Wingdings 2"/>
                <a:ea typeface="Wingdings 2"/>
              </a:rPr>
              <a:t>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4819680"/>
            <a:ext cx="838080" cy="763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06120" y="4933800"/>
            <a:ext cx="1084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écran de projec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7362720" y="3962520"/>
            <a:ext cx="761760" cy="761760"/>
            <a:chOff x="7362720" y="3962520"/>
            <a:chExt cx="761760" cy="761760"/>
          </a:xfrm>
        </p:grpSpPr>
        <p:sp>
          <p:nvSpPr>
            <p:cNvPr id="73" name=""/>
            <p:cNvSpPr/>
            <p:nvPr/>
          </p:nvSpPr>
          <p:spPr>
            <a:xfrm flipV="1">
              <a:off x="7579800" y="3962520"/>
              <a:ext cx="326160" cy="326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7664040" y="4255200"/>
              <a:ext cx="162720" cy="55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7362720" y="4344120"/>
              <a:ext cx="272160" cy="38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52320" y="4344120"/>
              <a:ext cx="272160" cy="38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7308000" y="3971880"/>
            <a:ext cx="104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Arial"/>
              </a:rPr>
              <a:t>Vidéo projecte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391520" y="3200400"/>
            <a:ext cx="704880" cy="480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066680" y="28195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2209680" y="28195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3429000" y="28195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5181480" y="28195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>
            <a:off x="3352680" y="44100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7"/>
          <a:stretch/>
        </p:blipFill>
        <p:spPr>
          <a:xfrm>
            <a:off x="1066680" y="44100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8"/>
          <a:stretch/>
        </p:blipFill>
        <p:spPr>
          <a:xfrm>
            <a:off x="2362320" y="441000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9"/>
          <a:stretch/>
        </p:blipFill>
        <p:spPr>
          <a:xfrm>
            <a:off x="6324480" y="28195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0"/>
          <a:stretch/>
        </p:blipFill>
        <p:spPr>
          <a:xfrm>
            <a:off x="5257800" y="44100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1"/>
          <a:stretch/>
        </p:blipFill>
        <p:spPr>
          <a:xfrm>
            <a:off x="6324480" y="441000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7467480" y="1295280"/>
            <a:ext cx="1143000" cy="9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040" y="2700"/>
                </a:moveTo>
                <a:lnTo>
                  <a:pt x="26460" y="2700"/>
                </a:lnTo>
                <a:lnTo>
                  <a:pt x="26460" y="31988"/>
                </a:lnTo>
                <a:lnTo>
                  <a:pt x="11490" y="4455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ortable Identifi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omme faisant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tie de la lig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e volley par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on adresse M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43200" y="525780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33ff"/>
                </a:solidFill>
                <a:latin typeface="Wingdings 2"/>
                <a:ea typeface="Wingdings 2"/>
              </a:rPr>
              <a:t>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930040" y="5264280"/>
            <a:ext cx="91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rise Ethern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71040" y="5257800"/>
            <a:ext cx="1578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Baie de brassage de l’ét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4724280" y="510516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9:47:07Z</dcterms:created>
  <dc:creator>adm.gallot</dc:creator>
  <dc:description/>
  <dc:language>en-US</dc:language>
  <cp:lastModifiedBy>DG</cp:lastModifiedBy>
  <dcterms:modified xsi:type="dcterms:W3CDTF">2012-02-24T16:06:25Z</dcterms:modified>
  <cp:revision>10</cp:revision>
  <dc:subject/>
  <dc:title>Diapositive 1</dc:title>
</cp:coreProperties>
</file>