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F14-1BD3-4D57-B70C-76F3ADD2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391-94D6-4F18-B3DB-1609EBF2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24B-2F6A-4825-87E2-04F3FE56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8C6-EED6-4C3B-B457-CE19F171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654-99B4-442F-9186-BE7EBEE6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953-B6FD-4133-8EBE-D35045DD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47D-DA93-4460-9771-AC1F55F0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D55-6D90-4A46-B9C2-604CB3D3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299-4BD5-43FB-92AE-63ED5282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398-2468-4E18-9FA0-DC19A80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A3A-1494-43C1-8574-74531384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3A6-FFA1-44A6-A2EB-C2ED0C6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F854-5588-4878-8BBE-694F8E2D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20" y="150840"/>
            <a:ext cx="6837480" cy="45608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360" y="4707000"/>
            <a:ext cx="6837480" cy="469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87280"/>
            <a:ext cx="66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440" y="1042920"/>
            <a:ext cx="302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les d’Armes de Villers lès Na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97360" y="1187280"/>
            <a:ext cx="1944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80" y="1476360"/>
            <a:ext cx="640908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 rue Rodin – 54600 Villers-lès-Na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600" y="1951200"/>
            <a:ext cx="66024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ub d’Escr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20" y="1165320"/>
            <a:ext cx="168444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49920" y="37296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5280" y="253188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5280" y="834840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8760" y="6343560"/>
            <a:ext cx="25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12, rue de Marron, 54600 Villers-lès-Na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5400" y="6021360"/>
            <a:ext cx="155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an-Christophe Berb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7720" y="66596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52600" y="6659640"/>
            <a:ext cx="11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ers-lès-Na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0160" y="7188120"/>
            <a:ext cx="318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f cent soixante quatre euros et quarante centi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37160" y="745812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/08/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34800" y="695808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4,40 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3:44:41Z</dcterms:created>
  <dc:creator>Denis Gallot</dc:creator>
  <dc:description/>
  <dc:language>en-US</dc:language>
  <cp:lastModifiedBy>Denis Gallot</cp:lastModifiedBy>
  <dcterms:modified xsi:type="dcterms:W3CDTF">2009-11-11T14:33:37Z</dcterms:modified>
  <cp:revision>5</cp:revision>
  <dc:subject/>
  <dc:title>Diapositive 1</dc:title>
</cp:coreProperties>
</file>