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ED1-E525-4382-B3A6-EE6EA6AC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0B63-8D16-4F8E-AFCF-0DBC6F19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05A-DD04-4DA7-8FF9-46BDF301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27C-D7BD-4938-8DC0-A2363C5A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1967-E52F-4DBE-9F00-96958D45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DD9-5C47-42B2-B342-8924C65A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4BC-95E4-40CE-9ABA-F7562F84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CD5-396B-445A-9F7E-9F511862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4CD-C25B-44CD-AB41-F37FE321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BC2-A92A-4539-A161-CD6ECD59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6B3-E52A-4322-B407-0CC71C12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E10-1E90-45DF-83BF-CA0DA707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6709-2B4C-4C8D-BB32-499ECEBF4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1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5.jpe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jpeg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000" y="5783400"/>
            <a:ext cx="6184800" cy="1726920"/>
          </a:xfrm>
          <a:prstGeom prst="roundRect">
            <a:avLst>
              <a:gd name="adj" fmla="val 6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520" y="1909800"/>
            <a:ext cx="2771640" cy="1727280"/>
          </a:xfrm>
          <a:prstGeom prst="roundRect">
            <a:avLst>
              <a:gd name="adj" fmla="val 4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840" y="3821040"/>
            <a:ext cx="2771640" cy="1728720"/>
          </a:xfrm>
          <a:prstGeom prst="roundRect">
            <a:avLst>
              <a:gd name="adj" fmla="val 4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2040" y="1905120"/>
            <a:ext cx="2772000" cy="1728720"/>
          </a:xfrm>
          <a:prstGeom prst="roundRect">
            <a:avLst>
              <a:gd name="adj" fmla="val 4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29160" y="3841920"/>
            <a:ext cx="2771640" cy="1728720"/>
          </a:xfrm>
          <a:prstGeom prst="roundRect">
            <a:avLst>
              <a:gd name="adj" fmla="val 4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24360" y="7253280"/>
            <a:ext cx="695160" cy="682560"/>
          </a:xfrm>
          <a:prstGeom prst="upArrow">
            <a:avLst>
              <a:gd name="adj1" fmla="val 38481"/>
              <a:gd name="adj2" fmla="val 5138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44960" y="2260440"/>
            <a:ext cx="341280" cy="402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09800" y="2405160"/>
            <a:ext cx="1049400" cy="814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4300560"/>
            <a:ext cx="1049040" cy="816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5480" y="187812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crime artis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30080" y="18716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crime spor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1080" y="377820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pace Confé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4720" y="380844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nds équipement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28280" y="7205760"/>
            <a:ext cx="105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piteau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94200" y="5848200"/>
            <a:ext cx="438120" cy="551160"/>
          </a:xfrm>
          <a:prstGeom prst="upArrow">
            <a:avLst>
              <a:gd name="adj1" fmla="val 53028"/>
              <a:gd name="adj2" fmla="val 4273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0822400">
            <a:off x="3998880" y="606888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pace resta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55880" y="5891040"/>
            <a:ext cx="0" cy="155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30640" y="6513480"/>
            <a:ext cx="1049400" cy="40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49320" y="6157800"/>
            <a:ext cx="0" cy="13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0822400">
            <a:off x="2238480" y="666108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pace accue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28840" y="7015320"/>
            <a:ext cx="461880" cy="490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495680" y="4465800"/>
            <a:ext cx="462240" cy="49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688000" y="2427120"/>
            <a:ext cx="461880" cy="49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65120" y="2462040"/>
            <a:ext cx="461880" cy="489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93880" y="1474920"/>
            <a:ext cx="43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è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ises nationales de l’Es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873000" y="6769080"/>
            <a:ext cx="808200" cy="541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49160" y="528804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piteau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9800" y="525924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piteau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9977600">
            <a:off x="1940040" y="6267240"/>
            <a:ext cx="914400" cy="1695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0822400">
            <a:off x="344520" y="578592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pace organisa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0280" y="6656400"/>
            <a:ext cx="125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0822400">
            <a:off x="360360" y="6897240"/>
            <a:ext cx="44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57000" y="7639200"/>
            <a:ext cx="6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tr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276800" y="2495520"/>
            <a:ext cx="1046160" cy="584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1870200" y="2519280"/>
            <a:ext cx="433440" cy="793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5273640" y="4316400"/>
            <a:ext cx="863640" cy="781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541440" y="4300560"/>
            <a:ext cx="650880" cy="736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1730520" y="4361040"/>
            <a:ext cx="461880" cy="488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722040" y="331956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piteau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600" y="32940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piteau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4865760" y="6424560"/>
            <a:ext cx="699840" cy="698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16200000">
            <a:off x="2829960" y="3807000"/>
            <a:ext cx="9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ir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43080" y="5838840"/>
            <a:ext cx="800280" cy="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23600" y="5587920"/>
            <a:ext cx="152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Écran géant d’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flipH="1" rot="45600">
            <a:off x="4114440" y="1185480"/>
            <a:ext cx="378000" cy="657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56080" y="124632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44600" y="2009880"/>
            <a:ext cx="0" cy="12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79960" y="1201680"/>
            <a:ext cx="144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table visiteu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SID « public »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lient DHCP vla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160800" y="2695680"/>
            <a:ext cx="766800" cy="812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3480" y="652320"/>
            <a:ext cx="152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 d’accès wifi (x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5560" y="2298600"/>
            <a:ext cx="142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aison taggué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ur les vlans 2 e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09720" y="618156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ur France 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839880" y="987480"/>
            <a:ext cx="966600" cy="1135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 flipH="1" rot="20853000">
            <a:off x="2958840" y="411120"/>
            <a:ext cx="377640" cy="657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3271680" y="237960"/>
            <a:ext cx="714600" cy="714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724200" y="263520"/>
            <a:ext cx="204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table organisateu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SID « orga »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ent DHCP vla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25560" y="3463920"/>
            <a:ext cx="0" cy="12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6670800"/>
            <a:ext cx="612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82600" y="5321160"/>
            <a:ext cx="0" cy="9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69800" y="6810480"/>
            <a:ext cx="1292400" cy="768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40160" y="7061040"/>
            <a:ext cx="7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6240" y="577836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2.168.1.2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179360" y="36752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LA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525600" y="365940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LA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7760" y="5329080"/>
            <a:ext cx="4170240" cy="692280"/>
          </a:xfrm>
          <a:prstGeom prst="borderCallout2">
            <a:avLst>
              <a:gd name="adj1" fmla="val 18750"/>
              <a:gd name="adj2" fmla="val -8333"/>
              <a:gd name="adj3" fmla="val 16513"/>
              <a:gd name="adj4" fmla="val -8032"/>
              <a:gd name="adj5" fmla="val -35319"/>
              <a:gd name="adj6" fmla="val -14462"/>
            </a:avLst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ur MD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eur DHCP pour les deux réseaux wifi « public » et « orga »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N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09960" y="2049480"/>
            <a:ext cx="4471920" cy="558720"/>
          </a:xfrm>
          <a:prstGeom prst="borderCallout2">
            <a:avLst>
              <a:gd name="adj1" fmla="val 18750"/>
              <a:gd name="adj2" fmla="val -8333"/>
              <a:gd name="adj3" fmla="val 20453"/>
              <a:gd name="adj4" fmla="val -5680"/>
              <a:gd name="adj5" fmla="val -40342"/>
              <a:gd name="adj6" fmla="val -9657"/>
            </a:avLst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SID « admin » non diffusé - WPA2 - VLAN 1 administration– réseau 172.16.0.0/16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SID « orga » non diffusé WPA2 – VLAN 2 - réseau 10.10.10.0/24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SID « public » diffusé WPA2 - VLAN 3 – réseau 172.31.1.0/24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2681280" y="4111560"/>
            <a:ext cx="766800" cy="812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23000" y="5477040"/>
            <a:ext cx="78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92.168.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Router Clip Art"/>
          <p:cNvPicPr/>
          <p:nvPr/>
        </p:nvPicPr>
        <p:blipFill>
          <a:blip r:embed="rId9"/>
          <a:stretch/>
        </p:blipFill>
        <p:spPr>
          <a:xfrm>
            <a:off x="441360" y="4640400"/>
            <a:ext cx="1625400" cy="892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24040" y="4483080"/>
            <a:ext cx="215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/>
          <p:nvPr/>
        </p:nvCxnSpPr>
        <p:spPr>
          <a:xfrm>
            <a:off x="2435040" y="3241800"/>
            <a:ext cx="811800" cy="3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2200320" y="3438360"/>
            <a:ext cx="674640" cy="7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14440" y="3409920"/>
            <a:ext cx="1800360" cy="10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3371760"/>
            <a:ext cx="235116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184320" y="3056040"/>
            <a:ext cx="2232000" cy="693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960" y="427356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72.31.1.254/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65560" y="445140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0.10.10.254/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8640" y="52941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Router Clip Art"/>
          <p:cNvPicPr/>
          <p:nvPr/>
        </p:nvPicPr>
        <p:blipFill>
          <a:blip r:embed="rId11"/>
          <a:stretch/>
        </p:blipFill>
        <p:spPr>
          <a:xfrm>
            <a:off x="415800" y="6014880"/>
            <a:ext cx="1625760" cy="892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3749760" y="4336920"/>
            <a:ext cx="811080" cy="735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311720" y="4838760"/>
            <a:ext cx="94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hotocop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56760" y="2692440"/>
            <a:ext cx="110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C guichet 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2760" y="4870440"/>
            <a:ext cx="98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C organ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4075200" y="3218040"/>
            <a:ext cx="776160" cy="776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76640" y="1143000"/>
            <a:ext cx="34765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71680" y="3371760"/>
            <a:ext cx="274320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18800" y="3559320"/>
            <a:ext cx="55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rac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8520" y="2962440"/>
            <a:ext cx="39996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8739200">
            <a:off x="2073600" y="3287520"/>
            <a:ext cx="6573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lan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4"/>
          <a:stretch/>
        </p:blipFill>
        <p:spPr>
          <a:xfrm>
            <a:off x="3903840" y="2681280"/>
            <a:ext cx="579240" cy="514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392000" y="2765520"/>
            <a:ext cx="113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mprimante ba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Glossy Tv clip art"/>
          <p:cNvPicPr/>
          <p:nvPr/>
        </p:nvPicPr>
        <p:blipFill>
          <a:blip r:embed="rId15"/>
          <a:stretch/>
        </p:blipFill>
        <p:spPr>
          <a:xfrm>
            <a:off x="5032440" y="3668760"/>
            <a:ext cx="1508040" cy="1128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420520" y="401940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ch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5080" y="3521160"/>
            <a:ext cx="19080" cy="11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04840" y="4276800"/>
            <a:ext cx="698400" cy="123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4720" y="4229280"/>
            <a:ext cx="52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</a:rPr>
              <a:t>filt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22280" y="4473720"/>
            <a:ext cx="216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0:32:17Z</dcterms:created>
  <dc:creator>DG</dc:creator>
  <dc:description/>
  <dc:language>en-US</dc:language>
  <cp:lastModifiedBy>DG</cp:lastModifiedBy>
  <dcterms:modified xsi:type="dcterms:W3CDTF">2012-02-24T16:05:15Z</dcterms:modified>
  <cp:revision>17</cp:revision>
  <dc:subject/>
  <dc:title>Diapositive 1</dc:title>
</cp:coreProperties>
</file>