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C62C-DF64-4A30-8328-4C497A61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1359864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1680" y="6815520"/>
            <a:ext cx="1359864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51BC-7B6B-4740-9120-93A88C18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1680" y="681552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4F5C-A358-4922-B650-21977692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43786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9600" y="3268800"/>
            <a:ext cx="43786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520" y="3268800"/>
            <a:ext cx="43786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1680" y="6815520"/>
            <a:ext cx="43786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9600" y="6815520"/>
            <a:ext cx="43786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520" y="6815520"/>
            <a:ext cx="43786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753E-90D2-4F70-B5FD-0D79BC8B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1680" y="3268800"/>
            <a:ext cx="1359864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1591-6864-4197-ABFB-F34D1547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1359864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197C-FDF9-454D-BE8B-4EEB0B10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663588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588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2C4C-F2AE-4A50-A480-CFECC9E1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6D21-94EA-42BB-9AB2-4CD66D40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1680" y="1006200"/>
            <a:ext cx="1359864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3ED7-5DC2-4E8C-9807-26113A48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588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1680" y="681552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7718-AF4D-4D4E-A37A-F7FE1788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663588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A945-1377-4192-9C98-34007FC4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1680" y="6815520"/>
            <a:ext cx="1359864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60E3-304E-457A-96AA-43A49BB4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1680" y="3268800"/>
            <a:ext cx="1359864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1320" y="10308960"/>
            <a:ext cx="33339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5880" y="10308960"/>
            <a:ext cx="507024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6000" y="10308960"/>
            <a:ext cx="33339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63624E0B-D89F-4A5D-9343-8C27E94D39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609360" y="6162840"/>
            <a:ext cx="2438640" cy="158472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Arial"/>
              </a:rPr>
              <a:t>xsl:value-of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ermet d’extraire du document XML le contenu de la balise sélectionnée par l’attribut </a:t>
            </a:r>
            <a:r>
              <a:rPr b="1" lang="fr-FR" sz="1200" spc="-1" strike="noStrike">
                <a:solidFill>
                  <a:srgbClr val="990000"/>
                </a:solidFill>
                <a:latin typeface="Verdana"/>
              </a:rPr>
              <a:t>select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(ici "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")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’est-à-dire, successivement, les noms des modèles d’avions : «123», «123xml» et «123xml Stretch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609360" y="4545000"/>
            <a:ext cx="2438640" cy="14022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Arial"/>
              </a:rPr>
              <a:t>xsl:for-each</a:t>
            </a:r>
            <a:r>
              <a:rPr b="0" lang="fr-FR" sz="1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fait une boucle sur l’ensemble des nœuds 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"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odel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"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(il y en a 3)  en exécutant à chaque boucle les instructions situées avant sa balise de fermeture 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&lt;/</a:t>
            </a:r>
            <a:r>
              <a:rPr b="0" lang="fr-FR" sz="1200" spc="-1" strike="noStrike">
                <a:solidFill>
                  <a:srgbClr val="990000"/>
                </a:solidFill>
                <a:latin typeface="Verdana"/>
              </a:rPr>
              <a:t>xsl:for-each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8640" y="1265400"/>
            <a:ext cx="14238360" cy="13172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 u="sng">
                <a:solidFill>
                  <a:srgbClr val="333399"/>
                </a:solidFill>
                <a:uFillTx/>
                <a:latin typeface="Verdana"/>
                <a:ea typeface="Arial"/>
              </a:rPr>
              <a:t>Principe de la transformation 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Le document </a:t>
            </a:r>
            <a:r>
              <a:rPr b="1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XSL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 permet d’associer les balises d’un document </a:t>
            </a:r>
            <a:r>
              <a:rPr b="1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XML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 à du code </a:t>
            </a:r>
            <a:r>
              <a:rPr b="1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HTML 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dans le but de présenter l’information contenue dans le document XML. Les balises XSL sont associées à l’espace de noms « xsl: » On y trouve aussi des éléments de langage </a:t>
            </a:r>
            <a:r>
              <a:rPr b="1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Xpath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 qui permet de définir la position des noeuds en indiquant leur chemin dans l’arborescence XML.  Ici, des modèles d’avions sont présentés dans un tableau HTML. Pour chaque modèle d’avion (</a:t>
            </a:r>
            <a:r>
              <a:rPr b="1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encadré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jaune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) on affiche son nom en gras (balise HTML &lt;</a:t>
            </a:r>
            <a:r>
              <a:rPr b="0" lang="fr-FR" sz="1200" spc="-1" strike="noStrike">
                <a:solidFill>
                  <a:srgbClr val="990000"/>
                </a:solidFill>
                <a:latin typeface="Verdana"/>
                <a:ea typeface="Arial"/>
              </a:rPr>
              <a:t>b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&gt;). Ensuite, pour chaque caractéristique (</a:t>
            </a:r>
            <a:r>
              <a:rPr b="1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encadré bleu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), on ajoute une ligne (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&lt;</a:t>
            </a:r>
            <a:r>
              <a:rPr b="0" lang="fr-FR" sz="1200" spc="-1" strike="noStrike">
                <a:solidFill>
                  <a:srgbClr val="990000"/>
                </a:solidFill>
                <a:latin typeface="Verdana"/>
              </a:rPr>
              <a:t>tr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&gt;)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 au tableau, en affichant d’abord le nom de la caractéristique (en clair dans le document XSL) dans une première colonne, puis, pour chaque modèle, la valeur de cette caractéristique dans une nouvelle colonne (&lt;</a:t>
            </a:r>
            <a:r>
              <a:rPr b="0" lang="fr-FR" sz="1200" spc="-1" strike="noStrike">
                <a:solidFill>
                  <a:srgbClr val="990000"/>
                </a:solidFill>
                <a:latin typeface="Verdana"/>
                <a:ea typeface="Arial"/>
              </a:rPr>
              <a:t>td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&gt;). Ainsi de suite pour toutes les caractéristiques</a:t>
            </a:r>
            <a:r>
              <a:rPr b="0" lang="fr-FR" sz="12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59240" y="185760"/>
            <a:ext cx="5862960" cy="9147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ansformation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 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609360" y="2921040"/>
            <a:ext cx="2438640" cy="143280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Quelques balises XSLT</a:t>
            </a:r>
            <a:r>
              <a:rPr b="1" lang="fr-FR" sz="1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Arial"/>
              </a:rPr>
              <a:t>xsl:template</a:t>
            </a:r>
            <a:r>
              <a:rPr b="0" lang="fr-FR" sz="1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: contient les transformations à appliquer quand le nœud spécifié par l’attribut</a:t>
            </a:r>
            <a:r>
              <a:rPr b="0" lang="fr-FR" sz="1200" spc="-1" strike="noStrike">
                <a:solidFill>
                  <a:srgbClr val="990000"/>
                </a:solidFill>
                <a:latin typeface="Verdana"/>
              </a:rPr>
              <a:t> match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(ici 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"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odels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"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) est rencontré dans le code 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55560" y="2921040"/>
            <a:ext cx="5616360" cy="4720680"/>
            <a:chOff x="655560" y="2921040"/>
            <a:chExt cx="5616360" cy="4720680"/>
          </a:xfrm>
        </p:grpSpPr>
        <p:sp>
          <p:nvSpPr>
            <p:cNvPr id="47" name=""/>
            <p:cNvSpPr/>
            <p:nvPr/>
          </p:nvSpPr>
          <p:spPr>
            <a:xfrm>
              <a:off x="655560" y="2921040"/>
              <a:ext cx="5616360" cy="47206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Code XML contenant les informations sur des modèles d’avions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odel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    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odel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ff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   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Nam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Nam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Takeoff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91000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Takeoff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Landing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65200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Landing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ZeroFuel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55500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ZeroFuel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EngineOffering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GE, P+W, and R-R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EngineOffering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FuelCapacity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60305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FuelCapacity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CruiseMach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0.855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CruiseMach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Passenger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416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Passenger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DesignRang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750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DesignRang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LowerHoldVolum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4876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LowerHoldVolum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Pallet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Pallet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odel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odel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 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Nam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23xml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Nam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Takeoff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04300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Takeoff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 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Landing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68500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Landing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     …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174320" y="3835440"/>
              <a:ext cx="1760040" cy="228600"/>
            </a:xfrm>
            <a:prstGeom prst="rect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0640" y="3606840"/>
              <a:ext cx="732600" cy="199800"/>
            </a:xfrm>
            <a:prstGeom prst="rect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67640" y="6683400"/>
              <a:ext cx="1922760" cy="228600"/>
            </a:xfrm>
            <a:prstGeom prst="rect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62360" y="6468840"/>
              <a:ext cx="732600" cy="228600"/>
            </a:xfrm>
            <a:prstGeom prst="rect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17920" y="3386160"/>
              <a:ext cx="976680" cy="228600"/>
            </a:xfrm>
            <a:prstGeom prst="rect">
              <a:avLst/>
            </a:prstGeom>
            <a:noFill/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5929200" y="103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488280" y="2921040"/>
            <a:ext cx="5914800" cy="4606200"/>
            <a:chOff x="6488280" y="2921040"/>
            <a:chExt cx="5914800" cy="4606200"/>
          </a:xfrm>
        </p:grpSpPr>
        <p:sp>
          <p:nvSpPr>
            <p:cNvPr id="55" name=""/>
            <p:cNvSpPr/>
            <p:nvPr/>
          </p:nvSpPr>
          <p:spPr>
            <a:xfrm>
              <a:off x="6488280" y="2921040"/>
              <a:ext cx="5914800" cy="4606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Code XSL qui présente les modèles d’avions dans un tableau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xsl:template match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del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able width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r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Principal Characteristic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xsl:for-each selec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&gt;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 bgcolor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80808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b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xsl:value-of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selec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 /&gt;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b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xsl:for-each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r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r bgcolor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0C0C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ax. Takeoff 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xsl:for-each selec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xsl:value-of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selec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axTakeoff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 /&gt;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xsl:for-each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r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r bgcolor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0C0C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ax. Landing 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926560" y="4506840"/>
              <a:ext cx="1647720" cy="22860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478640" y="4292640"/>
              <a:ext cx="1981440" cy="228600"/>
            </a:xfrm>
            <a:prstGeom prst="rect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64240" y="3409920"/>
              <a:ext cx="2362320" cy="228600"/>
            </a:xfrm>
            <a:prstGeom prst="rect">
              <a:avLst/>
            </a:prstGeom>
            <a:noFill/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61000" y="3857760"/>
              <a:ext cx="5688000" cy="1512720"/>
            </a:xfrm>
            <a:prstGeom prst="rect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561000" y="5513400"/>
              <a:ext cx="5688000" cy="115236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7785000" y="8105760"/>
            <a:ext cx="7293240" cy="2514600"/>
            <a:chOff x="7785000" y="8105760"/>
            <a:chExt cx="7293240" cy="2514600"/>
          </a:xfrm>
        </p:grpSpPr>
        <p:pic>
          <p:nvPicPr>
            <p:cNvPr id="62" name="" descr=""/>
            <p:cNvPicPr/>
            <p:nvPr/>
          </p:nvPicPr>
          <p:blipFill>
            <a:blip r:embed="rId1"/>
            <a:srcRect l="0" t="0" r="0" b="22742"/>
            <a:stretch/>
          </p:blipFill>
          <p:spPr>
            <a:xfrm>
              <a:off x="7785000" y="8486640"/>
              <a:ext cx="729324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7856640" y="8610480"/>
              <a:ext cx="7129440" cy="216000"/>
            </a:xfrm>
            <a:prstGeom prst="rect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832160" y="8151840"/>
              <a:ext cx="3304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Affichage obtenu dans la page 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839000" y="8105760"/>
              <a:ext cx="7239240" cy="25146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56640" y="8897760"/>
              <a:ext cx="7129440" cy="216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529000" y="8034480"/>
            <a:ext cx="3886200" cy="2831760"/>
            <a:chOff x="2529000" y="8034480"/>
            <a:chExt cx="3886200" cy="2831760"/>
          </a:xfrm>
        </p:grpSpPr>
        <p:sp>
          <p:nvSpPr>
            <p:cNvPr id="68" name=""/>
            <p:cNvSpPr/>
            <p:nvPr/>
          </p:nvSpPr>
          <p:spPr>
            <a:xfrm>
              <a:off x="2529000" y="8034480"/>
              <a:ext cx="3886200" cy="28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able width="100%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r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d&gt;Principal Characteristics&lt;/td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d bgcolor="808080"&gt;&lt;b&gt;123&lt;/b&gt;&lt;/td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d bgcolor="808080"&gt;&lt;b&gt;123xml&lt;/b&gt;&lt;/td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d bgcolor="808080"&gt;&lt;b&gt;123xml Stretch&lt;/b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/td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/tr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r bgcolor="C0C0C0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d&gt;Max. Takeoff Weight&lt;/td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81280" y="8615520"/>
              <a:ext cx="3581280" cy="1292040"/>
            </a:xfrm>
            <a:prstGeom prst="rect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98120" y="8107200"/>
              <a:ext cx="196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Code HTML résult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71920" y="10050480"/>
              <a:ext cx="3581280" cy="5713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192640" y="6378480"/>
            <a:ext cx="793800" cy="2158920"/>
          </a:xfrm>
          <a:prstGeom prst="downArrow">
            <a:avLst>
              <a:gd name="adj1" fmla="val 50000"/>
              <a:gd name="adj2" fmla="val 679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rot="16200000">
            <a:off x="6163920" y="6846120"/>
            <a:ext cx="934920" cy="1584360"/>
          </a:xfrm>
          <a:custGeom>
            <a:avLst/>
            <a:gdLst>
              <a:gd name="textAreaLeft" fmla="*/ 420120 w 934920"/>
              <a:gd name="textAreaRight" fmla="*/ 769320 w 934920"/>
              <a:gd name="textAreaTop" fmla="*/ 992880 h 1584360"/>
              <a:gd name="textAreaBottom" fmla="*/ 130464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7353"/>
                </a:moveTo>
                <a:lnTo>
                  <a:pt x="13536" y="17353"/>
                </a:lnTo>
                <a:lnTo>
                  <a:pt x="13536" y="9719"/>
                </a:lnTo>
                <a:lnTo>
                  <a:pt x="9719" y="9719"/>
                </a:lnTo>
                <a:lnTo>
                  <a:pt x="15660" y="0"/>
                </a:lnTo>
                <a:lnTo>
                  <a:pt x="21600" y="9719"/>
                </a:lnTo>
                <a:lnTo>
                  <a:pt x="17783" y="9719"/>
                </a:lnTo>
                <a:lnTo>
                  <a:pt x="177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4744800" y="7119000"/>
            <a:ext cx="16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4T19:31:09Z</dcterms:created>
  <dc:creator>Réseau Certa</dc:creator>
  <dc:description/>
  <dc:language>en-US</dc:language>
  <cp:lastModifiedBy>Eric Deschaintre</cp:lastModifiedBy>
  <dcterms:modified xsi:type="dcterms:W3CDTF">2004-09-06T09:55:57Z</dcterms:modified>
  <cp:revision>97</cp:revision>
  <dc:subject/>
  <dc:title>Présentation PowerPoint</dc:title>
</cp:coreProperties>
</file>