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396-9F13-48D5-8118-B1E67607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D1D-0B3E-4011-B210-CF43A264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E44-BFDD-4FA1-B964-BE9583DC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A02-05CC-42B7-A208-486BFD69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367-3BB9-4F51-A5D2-798D9584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3A6-9B15-481A-B03A-4D94AA03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AC1-B106-4A4D-91D6-EE801109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F1F-5871-4A79-9720-80BFB54D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0B8-8B4F-4D40-8AF9-EB10B8DD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76C-7BFD-4448-A3F8-E41B851C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326-4479-4AB3-82CB-34CFDF45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89F-02C9-48D7-9C0E-AA498BB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8F04-A6EF-4DBF-810B-2D95CC47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60000" cy="5213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835280" y="1773360"/>
            <a:ext cx="2016000" cy="3095640"/>
            <a:chOff x="1835280" y="1773360"/>
            <a:chExt cx="2016000" cy="3095640"/>
          </a:xfrm>
        </p:grpSpPr>
        <p:sp>
          <p:nvSpPr>
            <p:cNvPr id="44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635280" y="3789360"/>
              <a:ext cx="216000" cy="9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35280" y="4724280"/>
              <a:ext cx="73080" cy="1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924360" y="1773360"/>
            <a:ext cx="863280" cy="3095640"/>
            <a:chOff x="3924360" y="1773360"/>
            <a:chExt cx="863280" cy="3095640"/>
          </a:xfrm>
        </p:grpSpPr>
        <p:sp>
          <p:nvSpPr>
            <p:cNvPr id="49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24360" y="3860640"/>
              <a:ext cx="0" cy="1008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95640" y="1844640"/>
            <a:ext cx="3024000" cy="3024360"/>
            <a:chOff x="3995640" y="1844640"/>
            <a:chExt cx="3024000" cy="3024360"/>
          </a:xfrm>
        </p:grpSpPr>
        <p:sp>
          <p:nvSpPr>
            <p:cNvPr id="56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5640" y="3860640"/>
              <a:ext cx="216000" cy="86364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140360" y="4653000"/>
              <a:ext cx="71280" cy="2160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0252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486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80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3040" y="364500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71755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68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71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77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924360" y="3789360"/>
            <a:ext cx="0" cy="1077840"/>
            <a:chOff x="3924360" y="3789360"/>
            <a:chExt cx="0" cy="1077840"/>
          </a:xfrm>
        </p:grpSpPr>
        <p:sp>
          <p:nvSpPr>
            <p:cNvPr id="80" name=""/>
            <p:cNvSpPr/>
            <p:nvPr/>
          </p:nvSpPr>
          <p:spPr>
            <a:xfrm>
              <a:off x="3924360" y="3789360"/>
              <a:ext cx="0" cy="358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4360" y="4149720"/>
              <a:ext cx="0" cy="3589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508640"/>
              <a:ext cx="0" cy="35856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252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486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2520" y="4508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77640" y="4097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24320" y="38606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7848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924360" y="3573360"/>
            <a:ext cx="2734920" cy="1295640"/>
            <a:chOff x="3924360" y="3573360"/>
            <a:chExt cx="2734920" cy="1295640"/>
          </a:xfrm>
        </p:grpSpPr>
        <p:sp>
          <p:nvSpPr>
            <p:cNvPr id="91" name=""/>
            <p:cNvSpPr/>
            <p:nvPr/>
          </p:nvSpPr>
          <p:spPr>
            <a:xfrm>
              <a:off x="3924360" y="3789360"/>
              <a:ext cx="0" cy="107964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85600" y="3573360"/>
              <a:ext cx="217368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7853400" cy="2625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7080" y="450864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9440" y="270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372360" y="3068640"/>
            <a:ext cx="11714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835280" y="1773360"/>
            <a:ext cx="4752720" cy="1368360"/>
            <a:chOff x="1835280" y="1773360"/>
            <a:chExt cx="4752720" cy="1368360"/>
          </a:xfrm>
        </p:grpSpPr>
        <p:sp>
          <p:nvSpPr>
            <p:cNvPr id="104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32360" y="3141720"/>
              <a:ext cx="165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98160" y="36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24360" y="1773360"/>
            <a:ext cx="2592360" cy="1511280"/>
            <a:chOff x="3924360" y="1773360"/>
            <a:chExt cx="2592360" cy="1511280"/>
          </a:xfrm>
        </p:grpSpPr>
        <p:sp>
          <p:nvSpPr>
            <p:cNvPr id="109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8000" y="3284640"/>
              <a:ext cx="1728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1844640"/>
            <a:ext cx="2592000" cy="1584360"/>
            <a:chOff x="4427640" y="1844640"/>
            <a:chExt cx="2592000" cy="1584360"/>
          </a:xfrm>
        </p:grpSpPr>
        <p:sp>
          <p:nvSpPr>
            <p:cNvPr id="113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643280" y="3429000"/>
              <a:ext cx="194472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236000" y="299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0880" y="3357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7440" y="450864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6813720" cy="2568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4880" y="270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372360" y="3068640"/>
            <a:ext cx="11714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31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095240" y="3716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35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38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427640" y="3573360"/>
            <a:ext cx="2089080" cy="0"/>
            <a:chOff x="4427640" y="3573360"/>
            <a:chExt cx="2089080" cy="0"/>
          </a:xfrm>
        </p:grpSpPr>
        <p:sp>
          <p:nvSpPr>
            <p:cNvPr id="141" name=""/>
            <p:cNvSpPr/>
            <p:nvPr/>
          </p:nvSpPr>
          <p:spPr>
            <a:xfrm>
              <a:off x="4427640" y="3573360"/>
              <a:ext cx="43164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59280" y="3573360"/>
              <a:ext cx="50472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363640" y="3573360"/>
              <a:ext cx="576360" cy="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0360" y="3573360"/>
              <a:ext cx="576360" cy="0"/>
            </a:xfrm>
            <a:prstGeom prst="line">
              <a:avLst/>
            </a:prstGeom>
            <a:ln w="63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164360" y="299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0880" y="3357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30000" y="3232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03600" y="3860640"/>
            <a:ext cx="23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eur-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50864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7235640" cy="2746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6160" y="29973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61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422160" y="3500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65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68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35280" y="2492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5800" y="2924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75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78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980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488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416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84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224320" y="350028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réseau IP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4880" y="630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995640" y="3789360"/>
            <a:ext cx="0" cy="1079640"/>
            <a:chOff x="3995640" y="3789360"/>
            <a:chExt cx="0" cy="1079640"/>
          </a:xfrm>
        </p:grpSpPr>
        <p:sp>
          <p:nvSpPr>
            <p:cNvPr id="189" name=""/>
            <p:cNvSpPr/>
            <p:nvPr/>
          </p:nvSpPr>
          <p:spPr>
            <a:xfrm>
              <a:off x="3995640" y="3789360"/>
              <a:ext cx="0" cy="360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95640" y="4149720"/>
              <a:ext cx="0" cy="431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5640" y="4508640"/>
              <a:ext cx="0" cy="36036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63640" y="1844280"/>
            <a:ext cx="5329440" cy="1224360"/>
            <a:chOff x="1763640" y="1844280"/>
            <a:chExt cx="5329440" cy="1224360"/>
          </a:xfrm>
        </p:grpSpPr>
        <p:sp>
          <p:nvSpPr>
            <p:cNvPr id="194" name=""/>
            <p:cNvSpPr/>
            <p:nvPr/>
          </p:nvSpPr>
          <p:spPr>
            <a:xfrm flipH="1" flipV="1">
              <a:off x="1763640" y="1844640"/>
              <a:ext cx="1656000" cy="12240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771280" y="1844640"/>
              <a:ext cx="79236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851280" y="1844280"/>
              <a:ext cx="0" cy="107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067280" y="1844640"/>
              <a:ext cx="64908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27640" y="1844280"/>
              <a:ext cx="1368360" cy="107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859280" y="1844640"/>
              <a:ext cx="223380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142520" y="429264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ff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s v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, 2 e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2880" y="25653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Diffuse le vla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81090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35280" y="1773360"/>
            <a:ext cx="2089080" cy="3095640"/>
            <a:chOff x="1835280" y="1773360"/>
            <a:chExt cx="2089080" cy="3095640"/>
          </a:xfrm>
        </p:grpSpPr>
        <p:sp>
          <p:nvSpPr>
            <p:cNvPr id="206" name=""/>
            <p:cNvSpPr/>
            <p:nvPr/>
          </p:nvSpPr>
          <p:spPr>
            <a:xfrm>
              <a:off x="1835280" y="1773360"/>
              <a:ext cx="2089080" cy="15112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24360" y="3284640"/>
              <a:ext cx="0" cy="158436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43280" y="1773360"/>
            <a:ext cx="1081080" cy="1584360"/>
            <a:chOff x="2843280" y="1773360"/>
            <a:chExt cx="1081080" cy="1584360"/>
          </a:xfrm>
        </p:grpSpPr>
        <p:sp>
          <p:nvSpPr>
            <p:cNvPr id="209" name=""/>
            <p:cNvSpPr/>
            <p:nvPr/>
          </p:nvSpPr>
          <p:spPr>
            <a:xfrm>
              <a:off x="2843280" y="1773360"/>
              <a:ext cx="1081080" cy="15843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24360" y="1844640"/>
              <a:ext cx="0" cy="1513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987640" y="2133720"/>
            <a:ext cx="1223640" cy="1008000"/>
            <a:chOff x="2987640" y="2133720"/>
            <a:chExt cx="1223640" cy="1008000"/>
          </a:xfrm>
        </p:grpSpPr>
        <p:sp>
          <p:nvSpPr>
            <p:cNvPr id="212" name=""/>
            <p:cNvSpPr/>
            <p:nvPr/>
          </p:nvSpPr>
          <p:spPr>
            <a:xfrm flipH="1">
              <a:off x="3131640" y="2133720"/>
              <a:ext cx="1079640" cy="10080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987640" y="2204640"/>
              <a:ext cx="1152720" cy="863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189440" y="2637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ic inter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916360" y="2728800"/>
            <a:ext cx="4373640" cy="412920"/>
            <a:chOff x="2916360" y="2728800"/>
            <a:chExt cx="4373640" cy="412920"/>
          </a:xfrm>
        </p:grpSpPr>
        <p:sp>
          <p:nvSpPr>
            <p:cNvPr id="216" name=""/>
            <p:cNvSpPr/>
            <p:nvPr/>
          </p:nvSpPr>
          <p:spPr>
            <a:xfrm>
              <a:off x="2916360" y="2781360"/>
              <a:ext cx="2447640" cy="3603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46000" y="272880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Ports « isolated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694880" y="4076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ic autori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35280" y="3645000"/>
            <a:ext cx="3040200" cy="388800"/>
            <a:chOff x="3635280" y="3645000"/>
            <a:chExt cx="3040200" cy="388800"/>
          </a:xfrm>
        </p:grpSpPr>
        <p:sp>
          <p:nvSpPr>
            <p:cNvPr id="220" name=""/>
            <p:cNvSpPr/>
            <p:nvPr/>
          </p:nvSpPr>
          <p:spPr>
            <a:xfrm>
              <a:off x="3635280" y="3645000"/>
              <a:ext cx="576360" cy="360360"/>
            </a:xfrm>
            <a:prstGeom prst="ellipse">
              <a:avLst/>
            </a:prstGeom>
            <a:noFill/>
            <a:ln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8360" y="366552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8000"/>
                  </a:solidFill>
                  <a:latin typeface="Arial"/>
                </a:rPr>
                <a:t>Port « promiscuous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153040" y="4076640"/>
            <a:ext cx="33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V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réseau IP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78278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3600" y="90792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LAN1 « protected »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4520" y="3284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321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Vlan2 -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8880" y="465300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sserelle :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3600" y="3860640"/>
            <a:ext cx="23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eur-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35280" y="1773360"/>
            <a:ext cx="5184720" cy="1295280"/>
            <a:chOff x="1835280" y="1773360"/>
            <a:chExt cx="5184720" cy="1295280"/>
          </a:xfrm>
        </p:grpSpPr>
        <p:sp>
          <p:nvSpPr>
            <p:cNvPr id="233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24360" y="1844640"/>
              <a:ext cx="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211280" y="1844640"/>
              <a:ext cx="57636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500720" y="1844640"/>
              <a:ext cx="136656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788000" y="1844640"/>
              <a:ext cx="223200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240" y="44370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ègles de filtrage 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74836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9:55:28Z</dcterms:created>
  <dc:creator>Daniel Regnier</dc:creator>
  <dc:description/>
  <dc:language>en-US</dc:language>
  <cp:lastModifiedBy>lycee paul Claudel</cp:lastModifiedBy>
  <dcterms:modified xsi:type="dcterms:W3CDTF">2011-01-26T14:53:42Z</dcterms:modified>
  <cp:revision>30</cp:revision>
  <dc:subject/>
  <dc:title>Exonet</dc:title>
</cp:coreProperties>
</file>